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4.png" ContentType="image/png"/>
  <Override PartName="/ppt/media/image53.wmf" ContentType="image/x-wmf"/>
  <Override PartName="/ppt/media/image51.jpeg" ContentType="image/jpeg"/>
  <Override PartName="/ppt/media/image19.jpeg" ContentType="image/jpeg"/>
  <Override PartName="/ppt/media/image5.wmf" ContentType="image/x-wmf"/>
  <Override PartName="/ppt/media/image52.jpeg" ContentType="image/jpeg"/>
  <Override PartName="/ppt/media/image33.wmf" ContentType="image/x-wmf"/>
  <Override PartName="/ppt/media/image26.wmf" ContentType="image/x-wmf"/>
  <Override PartName="/ppt/media/image13.jpeg" ContentType="image/jpeg"/>
  <Override PartName="/ppt/media/image3.wmf" ContentType="image/x-wmf"/>
  <Override PartName="/ppt/media/image46.jpeg" ContentType="image/jpeg"/>
  <Override PartName="/ppt/media/image58.png" ContentType="image/png"/>
  <Override PartName="/ppt/media/image34.wmf" ContentType="image/x-wmf"/>
  <Override PartName="/ppt/media/image4.wmf" ContentType="image/x-wmf"/>
  <Override PartName="/ppt/media/image21.png" ContentType="image/png"/>
  <Override PartName="/ppt/media/image1.jpeg" ContentType="image/jpeg"/>
  <Override PartName="/ppt/media/image64.png" ContentType="image/png"/>
  <Override PartName="/ppt/media/image15.jpeg" ContentType="image/jpeg"/>
  <Override PartName="/ppt/media/image29.png" ContentType="image/png"/>
  <Override PartName="/ppt/media/image22.jpeg" ContentType="image/jpeg"/>
  <Override PartName="/ppt/media/image32.wmf" ContentType="image/x-wmf"/>
  <Override PartName="/ppt/media/image28.png" ContentType="image/png"/>
  <Override PartName="/ppt/media/image16.png" ContentType="image/png"/>
  <Override PartName="/ppt/media/image49.jpeg" ContentType="image/jpeg"/>
  <Override PartName="/ppt/media/image10.wmf" ContentType="image/x-wmf"/>
  <Override PartName="/ppt/media/image62.png" ContentType="image/png"/>
  <Override PartName="/ppt/media/image61.png" ContentType="image/png"/>
  <Override PartName="/ppt/media/image59.wmf" ContentType="image/x-wmf"/>
  <Override PartName="/ppt/media/image63.png" ContentType="image/png"/>
  <Override PartName="/ppt/media/image17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6.wmf" ContentType="image/x-wmf"/>
  <Override PartName="/ppt/media/image36.wmf" ContentType="image/x-wmf"/>
  <Override PartName="/ppt/media/image25.wmf" ContentType="image/x-wmf"/>
  <Override PartName="/ppt/media/image47.jpeg" ContentType="image/jpeg"/>
  <Override PartName="/ppt/media/image7.wmf" ContentType="image/x-wmf"/>
  <Override PartName="/ppt/media/image11.jpeg" ContentType="image/jpeg"/>
  <Override PartName="/ppt/media/image27.png" ContentType="image/png"/>
  <Override PartName="/ppt/media/image8.wmf" ContentType="image/x-wmf"/>
  <Override PartName="/ppt/media/image40.png" ContentType="image/png"/>
  <Override PartName="/ppt/media/image2.png" ContentType="image/png"/>
  <Override PartName="/ppt/media/image14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30.png" ContentType="image/png"/>
  <Override PartName="/ppt/media/image31.png" ContentType="image/png"/>
  <Override PartName="/ppt/media/image37.png" ContentType="image/png"/>
  <Override PartName="/ppt/media/image42.png" ContentType="image/png"/>
  <Override PartName="/ppt/media/image43.png" ContentType="image/png"/>
  <Override PartName="/ppt/media/image60.wmf" ContentType="image/x-wmf"/>
  <Override PartName="/ppt/media/image38.png" ContentType="image/pn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12.wmf" ContentType="image/x-wmf"/>
  <Override PartName="/ppt/media/image35.wmf" ContentType="image/x-wmf"/>
  <Override PartName="/ppt/media/image48.jpeg" ContentType="image/jpeg"/>
  <Override PartName="/ppt/media/image5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2BD8-0F66-4D13-91E6-B79456EED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that increasing/decreasing patterns are often called growth patterns or arithmetic and geometric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plain that patterns increase/decrease with constant or variable chan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nking visual and number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athematics is the science of patter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atterns permeate the curriculum and are found in the strands Number, Shape and Space, and Statistics and Proba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ell the story of the students who generalized a pattern to find the ‘names’ of any given whole-number s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meaning of the equal sign, explored in the primary Patterns and Relations strand, and searching for missing addends form a part of the foundation for formal algebra in later years.  The properties of the operations explored in elementary school form the basis of the rules for manipulating algebraic symb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(12 and 17 means the child wrote: 8 + 4 = 12 + 5 = 1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ee the Graffiti Activity in the facilitator notes.  Tell participants they may keep the chart for thei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indergarten students create very concrete patterns with manipulatives, sounds and actions. Explain orientation – perhaps keys that are placed alternately teeth up and down.  Kindergarten students also identify patterns in nursery rhymes and simple so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emphasis on non-numerical patterns continues into Grade 1 but diagrams are added to describe and create patterns. Events, such as birthdays, seasons and days of the week, are also introduced in Grad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umerical patterns with numbers to 100 are introduced in Grade 2.  Colour, size, shape and orientation are now simply termed as attributes in the achievement indicators for the teacher.  Double-attribute problems push students’ thinking as they explore non-numerical patterns. In Grade 3, students extend their understanding of both non-numerical and numerical patterns that are expressed as concrete, pictorial or symboli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Kindergarten students create very concrete patterns with manipulatives, sounds and actions. Explain orientation – perhaps keys that are placed alternately teeth up and down.  Kindergarten students also identify patterns in nursery rhymes and simple so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emphasis on non-numerical patterns continues into Grade 1 but diagrams are added to describe and create patterns. Events, such as birthdays, seasons and days of the week, are also introduced in Grade 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Numerical patterns with numbers to 100 are introduced in Grade 2.  Colour, size, shape and orientation are now simply termed as attributes in the achievement indicators for the teacher.  Double-attribute problems push students’ thinking as they explore non-numerical patterns. In Grade 3, students extend their understanding of both non-numerical and numerical patterns that are expressed as concrete, pictorial or symboli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D4A-CA4E-493A-8172-65AD365FE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6E26-316A-4C18-8B7D-A9171346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36D-1DEF-451A-A54A-87A2E4807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E614-0989-4620-A122-9833DA72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0028E-C9C6-4AF4-AB6D-E59AFE37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9AD5-29F1-43B7-931A-551DB96E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6BD4-8523-4959-B49D-AC4982CBE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7F83-9DBB-43D9-9807-181AD2C3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CE59-85F5-41A9-A8E0-3931D89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E81B-A146-478D-954A-5B3A66D5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9970-C999-4DA3-B9F0-B9C67ADE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3215-5DBC-4FEA-AF1F-B8DE227D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CC4C-00AE-462B-9A71-E90840468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ov.ab.ca/home/index.cfm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5.wmf"/><Relationship Id="rId6" Type="http://schemas.openxmlformats.org/officeDocument/2006/relationships/image" Target="../media/image35.wmf"/><Relationship Id="rId7" Type="http://schemas.openxmlformats.org/officeDocument/2006/relationships/image" Target="../media/image36.wmf"/><Relationship Id="rId8" Type="http://schemas.openxmlformats.org/officeDocument/2006/relationships/image" Target="../media/image35.wmf"/><Relationship Id="rId9" Type="http://schemas.openxmlformats.org/officeDocument/2006/relationships/hyperlink" Target="http://standards.nctm.org/document/eexamples/chap4/4.1/index.htm" TargetMode="External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2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6.wmf"/><Relationship Id="rId3" Type="http://schemas.openxmlformats.org/officeDocument/2006/relationships/image" Target="../media/image26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042920" y="1052640"/>
            <a:ext cx="720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0066cc"/>
                </a:solidFill>
                <a:latin typeface="Times New Roman"/>
              </a:rPr>
              <a:t>Patterns and </a:t>
            </a:r>
            <a:br>
              <a:rPr sz="6000"/>
            </a:br>
            <a:r>
              <a:rPr b="0" lang="en-CA" sz="6000" spc="-1" strike="noStrike">
                <a:solidFill>
                  <a:srgbClr val="0066cc"/>
                </a:solidFill>
                <a:latin typeface="Times New Roman"/>
              </a:rPr>
              <a:t>Pre-Algeb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95280" y="5589720"/>
            <a:ext cx="934920" cy="847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76360" y="6381720"/>
            <a:ext cx="59752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76360" y="6237360"/>
            <a:ext cx="575964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33360"/>
            <a:ext cx="0" cy="1871640"/>
          </a:xfrm>
          <a:prstGeom prst="line">
            <a:avLst/>
          </a:prstGeom>
          <a:ln w="2844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68360" y="333000"/>
            <a:ext cx="0" cy="410364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476280"/>
            <a:ext cx="82818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63240" y="4653000"/>
            <a:ext cx="31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Arial"/>
              </a:rPr>
              <a:t>Kindergarten</a:t>
            </a:r>
            <a:r>
              <a:rPr b="0" lang="en-CA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CA" sz="2400" spc="-1" strike="noStrike">
                <a:solidFill>
                  <a:srgbClr val="000066"/>
                </a:solidFill>
                <a:latin typeface="Arial"/>
              </a:rPr>
              <a:t>Grad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124000" y="3860640"/>
            <a:ext cx="2374560" cy="505080"/>
            <a:chOff x="2124000" y="3860640"/>
            <a:chExt cx="2374560" cy="505080"/>
          </a:xfrm>
        </p:grpSpPr>
        <p:sp>
          <p:nvSpPr>
            <p:cNvPr id="57" name=""/>
            <p:cNvSpPr/>
            <p:nvPr/>
          </p:nvSpPr>
          <p:spPr>
            <a:xfrm>
              <a:off x="2124000" y="3860640"/>
              <a:ext cx="508680" cy="505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746440" y="3860640"/>
              <a:ext cx="508680" cy="505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67440" y="3860640"/>
              <a:ext cx="50868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89880" y="3860640"/>
              <a:ext cx="508680" cy="50508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645080" y="3860640"/>
            <a:ext cx="2374560" cy="505080"/>
            <a:chOff x="4645080" y="3860640"/>
            <a:chExt cx="2374560" cy="505080"/>
          </a:xfrm>
        </p:grpSpPr>
        <p:sp>
          <p:nvSpPr>
            <p:cNvPr id="62" name=""/>
            <p:cNvSpPr/>
            <p:nvPr/>
          </p:nvSpPr>
          <p:spPr>
            <a:xfrm>
              <a:off x="4645080" y="3860640"/>
              <a:ext cx="508680" cy="505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67520" y="3860640"/>
              <a:ext cx="508680" cy="50508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88520" y="3860640"/>
              <a:ext cx="508680" cy="505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10960" y="3860640"/>
              <a:ext cx="508680" cy="505080"/>
            </a:xfrm>
            <a:prstGeom prst="triangle">
              <a:avLst>
                <a:gd name="adj" fmla="val 50000"/>
              </a:avLst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8674200" y="6308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Government of Alberta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80360" y="5734080"/>
            <a:ext cx="129708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297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298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302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ame pattern can be expressed in different wa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5" name=""/>
          <p:cNvSpPr/>
          <p:nvPr/>
        </p:nvSpPr>
        <p:spPr>
          <a:xfrm>
            <a:off x="900000" y="1832400"/>
            <a:ext cx="727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Non-numerical patterns can 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ranslated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into a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letter cod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ABB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then extended to make predictions and solve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629080" y="3429000"/>
            <a:ext cx="95076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8600" y="3429000"/>
            <a:ext cx="792000" cy="9144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87920" y="3429000"/>
            <a:ext cx="792000" cy="914400"/>
          </a:xfrm>
          <a:prstGeom prst="triangle">
            <a:avLst>
              <a:gd name="adj" fmla="val 50000"/>
            </a:avLst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638680" y="3429000"/>
            <a:ext cx="951120" cy="9144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771640" y="3284640"/>
            <a:ext cx="700200" cy="1047240"/>
            <a:chOff x="2771640" y="3284640"/>
            <a:chExt cx="700200" cy="1047240"/>
          </a:xfrm>
        </p:grpSpPr>
        <p:grpSp>
          <p:nvGrpSpPr>
            <p:cNvPr id="311" name=""/>
            <p:cNvGrpSpPr/>
            <p:nvPr/>
          </p:nvGrpSpPr>
          <p:grpSpPr>
            <a:xfrm>
              <a:off x="3234240" y="3309120"/>
              <a:ext cx="190440" cy="408960"/>
              <a:chOff x="3234240" y="3309120"/>
              <a:chExt cx="190440" cy="408960"/>
            </a:xfrm>
          </p:grpSpPr>
          <p:sp>
            <p:nvSpPr>
              <p:cNvPr id="312" name=""/>
              <p:cNvSpPr/>
              <p:nvPr/>
            </p:nvSpPr>
            <p:spPr>
              <a:xfrm flipV="1">
                <a:off x="3234240" y="3513600"/>
                <a:ext cx="1904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flipV="1">
                <a:off x="3329640" y="330912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"/>
            <p:cNvGrpSpPr/>
            <p:nvPr/>
          </p:nvGrpSpPr>
          <p:grpSpPr>
            <a:xfrm>
              <a:off x="2859480" y="3312360"/>
              <a:ext cx="190440" cy="408960"/>
              <a:chOff x="2859480" y="3312360"/>
              <a:chExt cx="190440" cy="408960"/>
            </a:xfrm>
          </p:grpSpPr>
          <p:sp>
            <p:nvSpPr>
              <p:cNvPr id="315" name=""/>
              <p:cNvSpPr/>
              <p:nvPr/>
            </p:nvSpPr>
            <p:spPr>
              <a:xfrm flipH="1" flipV="1">
                <a:off x="2859480" y="3516840"/>
                <a:ext cx="1904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2859480" y="331236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900160" y="3284640"/>
              <a:ext cx="95040" cy="68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281400" y="3284640"/>
              <a:ext cx="95040" cy="68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2771640" y="3420720"/>
              <a:ext cx="700200" cy="911160"/>
              <a:chOff x="2771640" y="3420720"/>
              <a:chExt cx="700200" cy="911160"/>
            </a:xfrm>
          </p:grpSpPr>
          <p:sp>
            <p:nvSpPr>
              <p:cNvPr id="320" name=""/>
              <p:cNvSpPr/>
              <p:nvPr/>
            </p:nvSpPr>
            <p:spPr>
              <a:xfrm>
                <a:off x="2995560" y="3420720"/>
                <a:ext cx="285840" cy="204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2933640" y="3686760"/>
                <a:ext cx="409320" cy="285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2899800" y="4034520"/>
                <a:ext cx="19044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186000" y="4034520"/>
                <a:ext cx="19044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771640" y="4263840"/>
                <a:ext cx="1904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281400" y="4263840"/>
                <a:ext cx="1904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6" name=""/>
          <p:cNvGrpSpPr/>
          <p:nvPr/>
        </p:nvGrpSpPr>
        <p:grpSpPr>
          <a:xfrm>
            <a:off x="5724360" y="3284640"/>
            <a:ext cx="700200" cy="1047240"/>
            <a:chOff x="5724360" y="3284640"/>
            <a:chExt cx="700200" cy="1047240"/>
          </a:xfrm>
        </p:grpSpPr>
        <p:grpSp>
          <p:nvGrpSpPr>
            <p:cNvPr id="327" name=""/>
            <p:cNvGrpSpPr/>
            <p:nvPr/>
          </p:nvGrpSpPr>
          <p:grpSpPr>
            <a:xfrm>
              <a:off x="6186960" y="3309120"/>
              <a:ext cx="190440" cy="408960"/>
              <a:chOff x="6186960" y="3309120"/>
              <a:chExt cx="190440" cy="408960"/>
            </a:xfrm>
          </p:grpSpPr>
          <p:sp>
            <p:nvSpPr>
              <p:cNvPr id="328" name=""/>
              <p:cNvSpPr/>
              <p:nvPr/>
            </p:nvSpPr>
            <p:spPr>
              <a:xfrm flipV="1">
                <a:off x="6186960" y="3513600"/>
                <a:ext cx="1904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6282360" y="330912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5812200" y="3312360"/>
              <a:ext cx="190440" cy="408960"/>
              <a:chOff x="5812200" y="3312360"/>
              <a:chExt cx="190440" cy="408960"/>
            </a:xfrm>
          </p:grpSpPr>
          <p:sp>
            <p:nvSpPr>
              <p:cNvPr id="331" name=""/>
              <p:cNvSpPr/>
              <p:nvPr/>
            </p:nvSpPr>
            <p:spPr>
              <a:xfrm flipH="1" flipV="1">
                <a:off x="5812200" y="3516840"/>
                <a:ext cx="1904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5812200" y="331236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5852880" y="3284640"/>
              <a:ext cx="95040" cy="68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34120" y="3284640"/>
              <a:ext cx="95040" cy="680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" name=""/>
            <p:cNvGrpSpPr/>
            <p:nvPr/>
          </p:nvGrpSpPr>
          <p:grpSpPr>
            <a:xfrm>
              <a:off x="5724360" y="3420720"/>
              <a:ext cx="700200" cy="911160"/>
              <a:chOff x="5724360" y="3420720"/>
              <a:chExt cx="700200" cy="911160"/>
            </a:xfrm>
          </p:grpSpPr>
          <p:sp>
            <p:nvSpPr>
              <p:cNvPr id="336" name=""/>
              <p:cNvSpPr/>
              <p:nvPr/>
            </p:nvSpPr>
            <p:spPr>
              <a:xfrm>
                <a:off x="5948280" y="3420720"/>
                <a:ext cx="285840" cy="2044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5400000">
                <a:off x="5886360" y="3686760"/>
                <a:ext cx="409320" cy="2858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5852520" y="4034520"/>
                <a:ext cx="19044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38720" y="4034520"/>
                <a:ext cx="190440" cy="27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724360" y="4263840"/>
                <a:ext cx="1904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34120" y="4263840"/>
                <a:ext cx="1904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2" name=""/>
          <p:cNvGrpSpPr/>
          <p:nvPr/>
        </p:nvGrpSpPr>
        <p:grpSpPr>
          <a:xfrm>
            <a:off x="3852360" y="3514680"/>
            <a:ext cx="590760" cy="831960"/>
            <a:chOff x="3852360" y="3514680"/>
            <a:chExt cx="590760" cy="831960"/>
          </a:xfrm>
        </p:grpSpPr>
        <p:grpSp>
          <p:nvGrpSpPr>
            <p:cNvPr id="343" name=""/>
            <p:cNvGrpSpPr/>
            <p:nvPr/>
          </p:nvGrpSpPr>
          <p:grpSpPr>
            <a:xfrm>
              <a:off x="4176360" y="4049280"/>
              <a:ext cx="266760" cy="297360"/>
              <a:chOff x="4176360" y="4049280"/>
              <a:chExt cx="266760" cy="297360"/>
            </a:xfrm>
          </p:grpSpPr>
          <p:sp>
            <p:nvSpPr>
              <p:cNvPr id="344" name=""/>
              <p:cNvSpPr/>
              <p:nvPr/>
            </p:nvSpPr>
            <p:spPr>
              <a:xfrm>
                <a:off x="4308840" y="422136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76360" y="4049280"/>
                <a:ext cx="13248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52320" y="4278600"/>
                <a:ext cx="19080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3852360" y="4037040"/>
              <a:ext cx="266760" cy="297360"/>
              <a:chOff x="3852360" y="4037040"/>
              <a:chExt cx="266760" cy="297360"/>
            </a:xfrm>
          </p:grpSpPr>
          <p:sp>
            <p:nvSpPr>
              <p:cNvPr id="348" name=""/>
              <p:cNvSpPr/>
              <p:nvPr/>
            </p:nvSpPr>
            <p:spPr>
              <a:xfrm>
                <a:off x="3986640" y="420912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3986640" y="4037040"/>
                <a:ext cx="13248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3852360" y="4266360"/>
                <a:ext cx="19080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3985560" y="3514680"/>
              <a:ext cx="286560" cy="20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5400000">
              <a:off x="3924360" y="3780000"/>
              <a:ext cx="408960" cy="2865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4170600" y="3787560"/>
              <a:ext cx="163440" cy="433440"/>
              <a:chOff x="4170600" y="3787560"/>
              <a:chExt cx="163440" cy="433440"/>
            </a:xfrm>
          </p:grpSpPr>
          <p:sp>
            <p:nvSpPr>
              <p:cNvPr id="354" name=""/>
              <p:cNvSpPr/>
              <p:nvPr/>
            </p:nvSpPr>
            <p:spPr>
              <a:xfrm>
                <a:off x="4238640" y="3787560"/>
                <a:ext cx="9540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H="1">
                <a:off x="4238280" y="3992040"/>
                <a:ext cx="9540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170600" y="4152960"/>
                <a:ext cx="9540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3924720" y="3781440"/>
              <a:ext cx="162720" cy="433440"/>
              <a:chOff x="3924720" y="3781440"/>
              <a:chExt cx="162720" cy="433440"/>
            </a:xfrm>
          </p:grpSpPr>
          <p:sp>
            <p:nvSpPr>
              <p:cNvPr id="358" name=""/>
              <p:cNvSpPr/>
              <p:nvPr/>
            </p:nvSpPr>
            <p:spPr>
              <a:xfrm flipH="1">
                <a:off x="3924720" y="378144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924720" y="398592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3992400" y="4146840"/>
                <a:ext cx="950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1" name=""/>
          <p:cNvGrpSpPr/>
          <p:nvPr/>
        </p:nvGrpSpPr>
        <p:grpSpPr>
          <a:xfrm>
            <a:off x="4802040" y="3514680"/>
            <a:ext cx="588600" cy="831960"/>
            <a:chOff x="4802040" y="3514680"/>
            <a:chExt cx="588600" cy="831960"/>
          </a:xfrm>
        </p:grpSpPr>
        <p:grpSp>
          <p:nvGrpSpPr>
            <p:cNvPr id="362" name=""/>
            <p:cNvGrpSpPr/>
            <p:nvPr/>
          </p:nvGrpSpPr>
          <p:grpSpPr>
            <a:xfrm>
              <a:off x="5124960" y="4049280"/>
              <a:ext cx="265680" cy="297360"/>
              <a:chOff x="5124960" y="4049280"/>
              <a:chExt cx="265680" cy="297360"/>
            </a:xfrm>
          </p:grpSpPr>
          <p:sp>
            <p:nvSpPr>
              <p:cNvPr id="363" name=""/>
              <p:cNvSpPr/>
              <p:nvPr/>
            </p:nvSpPr>
            <p:spPr>
              <a:xfrm>
                <a:off x="5257080" y="422136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124960" y="4049280"/>
                <a:ext cx="13212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200560" y="4278600"/>
                <a:ext cx="19008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4802040" y="4037040"/>
              <a:ext cx="265680" cy="297360"/>
              <a:chOff x="4802040" y="4037040"/>
              <a:chExt cx="265680" cy="297360"/>
            </a:xfrm>
          </p:grpSpPr>
          <p:sp>
            <p:nvSpPr>
              <p:cNvPr id="367" name=""/>
              <p:cNvSpPr/>
              <p:nvPr/>
            </p:nvSpPr>
            <p:spPr>
              <a:xfrm>
                <a:off x="4935600" y="4209120"/>
                <a:ext cx="0" cy="9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4935600" y="4037040"/>
                <a:ext cx="13212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4802040" y="4266360"/>
                <a:ext cx="19008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4934520" y="3514680"/>
              <a:ext cx="285480" cy="2041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5400000">
              <a:off x="4872240" y="3780360"/>
              <a:ext cx="408960" cy="2854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5119200" y="3787560"/>
              <a:ext cx="162720" cy="433440"/>
              <a:chOff x="5119200" y="3787560"/>
              <a:chExt cx="162720" cy="433440"/>
            </a:xfrm>
          </p:grpSpPr>
          <p:sp>
            <p:nvSpPr>
              <p:cNvPr id="373" name=""/>
              <p:cNvSpPr/>
              <p:nvPr/>
            </p:nvSpPr>
            <p:spPr>
              <a:xfrm>
                <a:off x="5186880" y="378756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5186880" y="3992040"/>
                <a:ext cx="9504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19200" y="4152960"/>
                <a:ext cx="9540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4873680" y="3781440"/>
              <a:ext cx="162000" cy="433440"/>
              <a:chOff x="4873680" y="3781440"/>
              <a:chExt cx="162000" cy="433440"/>
            </a:xfrm>
          </p:grpSpPr>
          <p:sp>
            <p:nvSpPr>
              <p:cNvPr id="377" name=""/>
              <p:cNvSpPr/>
              <p:nvPr/>
            </p:nvSpPr>
            <p:spPr>
              <a:xfrm flipH="1">
                <a:off x="4873680" y="3781440"/>
                <a:ext cx="9468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4874040" y="3985920"/>
                <a:ext cx="94680" cy="20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4940640" y="4146840"/>
                <a:ext cx="95040" cy="6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0" name=""/>
          <p:cNvGrpSpPr/>
          <p:nvPr/>
        </p:nvGrpSpPr>
        <p:grpSpPr>
          <a:xfrm>
            <a:off x="2629080" y="4365720"/>
            <a:ext cx="4031640" cy="1009800"/>
            <a:chOff x="2629080" y="4365720"/>
            <a:chExt cx="4031640" cy="1009800"/>
          </a:xfrm>
        </p:grpSpPr>
        <p:sp>
          <p:nvSpPr>
            <p:cNvPr id="381" name=""/>
            <p:cNvSpPr/>
            <p:nvPr/>
          </p:nvSpPr>
          <p:spPr>
            <a:xfrm>
              <a:off x="2629080" y="4365720"/>
              <a:ext cx="100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52720" y="436572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6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36720" y="4367160"/>
              <a:ext cx="10076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71640" y="4365720"/>
              <a:ext cx="1008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6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771640" y="3357720"/>
          <a:ext cx="64476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3357720"/>
                    <a:ext cx="64476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3780000" y="3357720"/>
            <a:ext cx="644400" cy="100800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4716360" y="3357720"/>
            <a:ext cx="644760" cy="10080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5796000" y="3284640"/>
            <a:ext cx="644400" cy="1008000"/>
          </a:xfrm>
          <a:prstGeom prst="rect">
            <a:avLst/>
          </a:prstGeom>
          <a:ln w="0">
            <a:noFill/>
          </a:ln>
        </p:spPr>
      </p:pic>
      <p:grpSp>
        <p:nvGrpSpPr>
          <p:cNvPr id="391" name=""/>
          <p:cNvGrpSpPr/>
          <p:nvPr/>
        </p:nvGrpSpPr>
        <p:grpSpPr>
          <a:xfrm>
            <a:off x="2844720" y="3500280"/>
            <a:ext cx="503280" cy="792360"/>
            <a:chOff x="2844720" y="3500280"/>
            <a:chExt cx="503280" cy="792360"/>
          </a:xfrm>
        </p:grpSpPr>
        <p:sp>
          <p:nvSpPr>
            <p:cNvPr id="392" name=""/>
            <p:cNvSpPr/>
            <p:nvPr/>
          </p:nvSpPr>
          <p:spPr>
            <a:xfrm>
              <a:off x="2844720" y="350028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348000" y="350028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844720" y="35002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4140360" y="350028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076720" y="3500280"/>
            <a:ext cx="0" cy="79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5869080" y="3500280"/>
            <a:ext cx="503280" cy="792360"/>
            <a:chOff x="5869080" y="3500280"/>
            <a:chExt cx="503280" cy="792360"/>
          </a:xfrm>
        </p:grpSpPr>
        <p:sp>
          <p:nvSpPr>
            <p:cNvPr id="398" name=""/>
            <p:cNvSpPr/>
            <p:nvPr/>
          </p:nvSpPr>
          <p:spPr>
            <a:xfrm>
              <a:off x="5869080" y="350028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72360" y="3500280"/>
              <a:ext cx="0" cy="792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869080" y="3500280"/>
              <a:ext cx="503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500"/>
                            </p:stCondLst>
                            <p:childTnLst>
                              <p:par>
                                <p:cTn id="10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405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406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410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2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he same pattern can be expressed in different way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329080" cy="14194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979640" y="155736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Translat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348000" y="407664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x and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6360" y="4797360"/>
            <a:ext cx="66247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reate a 2- to 4-element core, using your choice of materials; e.g., colour, orientation, si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xtend your pattern 2 more tim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Find someone else in the room with the same pattern co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2565360"/>
            <a:ext cx="208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are bot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BB patter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42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42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42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9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0" name=""/>
          <p:cNvSpPr/>
          <p:nvPr/>
        </p:nvSpPr>
        <p:spPr>
          <a:xfrm>
            <a:off x="1116000" y="17726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tterns can b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peat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made up of a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re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t of elemen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re uni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that is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terate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692360" y="2781360"/>
            <a:ext cx="1368360" cy="360360"/>
            <a:chOff x="1692360" y="2781360"/>
            <a:chExt cx="1368360" cy="360360"/>
          </a:xfrm>
        </p:grpSpPr>
        <p:sp>
          <p:nvSpPr>
            <p:cNvPr id="432" name=""/>
            <p:cNvSpPr/>
            <p:nvPr/>
          </p:nvSpPr>
          <p:spPr>
            <a:xfrm>
              <a:off x="1692360" y="2781360"/>
              <a:ext cx="358560" cy="360360"/>
            </a:xfrm>
            <a:prstGeom prst="ellipse">
              <a:avLst/>
            </a:prstGeom>
            <a:solidFill>
              <a:srgbClr val="e23e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95640" y="2781360"/>
              <a:ext cx="360360" cy="360360"/>
            </a:xfrm>
            <a:prstGeom prst="rect">
              <a:avLst/>
            </a:prstGeom>
            <a:solidFill>
              <a:srgbClr val="e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700360" y="27813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3203640" y="2781360"/>
            <a:ext cx="1368360" cy="360360"/>
            <a:chOff x="3203640" y="2781360"/>
            <a:chExt cx="1368360" cy="360360"/>
          </a:xfrm>
        </p:grpSpPr>
        <p:sp>
          <p:nvSpPr>
            <p:cNvPr id="436" name=""/>
            <p:cNvSpPr/>
            <p:nvPr/>
          </p:nvSpPr>
          <p:spPr>
            <a:xfrm>
              <a:off x="3203640" y="2781360"/>
              <a:ext cx="358560" cy="360360"/>
            </a:xfrm>
            <a:prstGeom prst="ellipse">
              <a:avLst/>
            </a:prstGeom>
            <a:solidFill>
              <a:srgbClr val="e23e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06920" y="2781360"/>
              <a:ext cx="360360" cy="360360"/>
            </a:xfrm>
            <a:prstGeom prst="rect">
              <a:avLst/>
            </a:prstGeom>
            <a:solidFill>
              <a:srgbClr val="e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1640" y="27813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4716360" y="2781360"/>
            <a:ext cx="1368360" cy="360360"/>
            <a:chOff x="4716360" y="2781360"/>
            <a:chExt cx="1368360" cy="360360"/>
          </a:xfrm>
        </p:grpSpPr>
        <p:sp>
          <p:nvSpPr>
            <p:cNvPr id="440" name=""/>
            <p:cNvSpPr/>
            <p:nvPr/>
          </p:nvSpPr>
          <p:spPr>
            <a:xfrm>
              <a:off x="4716360" y="2781360"/>
              <a:ext cx="358560" cy="360360"/>
            </a:xfrm>
            <a:prstGeom prst="ellipse">
              <a:avLst/>
            </a:prstGeom>
            <a:solidFill>
              <a:srgbClr val="e23e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219640" y="2781360"/>
              <a:ext cx="360360" cy="360360"/>
            </a:xfrm>
            <a:prstGeom prst="rect">
              <a:avLst/>
            </a:prstGeom>
            <a:solidFill>
              <a:srgbClr val="e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24360" y="27813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6227640" y="2781360"/>
            <a:ext cx="1368360" cy="360360"/>
            <a:chOff x="6227640" y="2781360"/>
            <a:chExt cx="1368360" cy="360360"/>
          </a:xfrm>
        </p:grpSpPr>
        <p:sp>
          <p:nvSpPr>
            <p:cNvPr id="444" name=""/>
            <p:cNvSpPr/>
            <p:nvPr/>
          </p:nvSpPr>
          <p:spPr>
            <a:xfrm>
              <a:off x="6227640" y="2781360"/>
              <a:ext cx="358560" cy="360360"/>
            </a:xfrm>
            <a:prstGeom prst="ellipse">
              <a:avLst/>
            </a:prstGeom>
            <a:solidFill>
              <a:srgbClr val="e23e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30920" y="2781360"/>
              <a:ext cx="360360" cy="360360"/>
            </a:xfrm>
            <a:prstGeom prst="rect">
              <a:avLst/>
            </a:prstGeom>
            <a:solidFill>
              <a:srgbClr val="ee17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235640" y="2781360"/>
              <a:ext cx="360360" cy="360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903240" y="36028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tterns can b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ncreas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decreas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created by orderly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hang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1476360" y="4322880"/>
            <a:ext cx="3663720" cy="381960"/>
            <a:chOff x="1476360" y="4322880"/>
            <a:chExt cx="3663720" cy="381960"/>
          </a:xfrm>
        </p:grpSpPr>
        <p:sp>
          <p:nvSpPr>
            <p:cNvPr id="449" name=""/>
            <p:cNvSpPr/>
            <p:nvPr/>
          </p:nvSpPr>
          <p:spPr>
            <a:xfrm>
              <a:off x="4079160" y="4491720"/>
              <a:ext cx="204840" cy="21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970800" y="4322880"/>
              <a:ext cx="204840" cy="21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" name=""/>
            <p:cNvGrpSpPr/>
            <p:nvPr/>
          </p:nvGrpSpPr>
          <p:grpSpPr>
            <a:xfrm>
              <a:off x="1476360" y="4322880"/>
              <a:ext cx="3663720" cy="381960"/>
              <a:chOff x="1476360" y="4322880"/>
              <a:chExt cx="3663720" cy="381960"/>
            </a:xfrm>
          </p:grpSpPr>
          <p:sp>
            <p:nvSpPr>
              <p:cNvPr id="452" name=""/>
              <p:cNvSpPr/>
              <p:nvPr/>
            </p:nvSpPr>
            <p:spPr>
              <a:xfrm>
                <a:off x="147636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169308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92168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213876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235584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58472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181332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03004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24712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276588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98296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1156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342864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87460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10320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31992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86244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0812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19940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71852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35240" y="449172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826880" y="4322880"/>
                <a:ext cx="204840" cy="213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4" name=""/>
          <p:cNvSpPr/>
          <p:nvPr/>
        </p:nvSpPr>
        <p:spPr>
          <a:xfrm>
            <a:off x="1835280" y="4796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9                 7              5      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627280" y="6020640"/>
            <a:ext cx="54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2                    16              8            4      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626920" y="5229360"/>
            <a:ext cx="5181480" cy="804600"/>
            <a:chOff x="2626920" y="5229360"/>
            <a:chExt cx="5181480" cy="804600"/>
          </a:xfrm>
        </p:grpSpPr>
        <p:grpSp>
          <p:nvGrpSpPr>
            <p:cNvPr id="477" name=""/>
            <p:cNvGrpSpPr/>
            <p:nvPr/>
          </p:nvGrpSpPr>
          <p:grpSpPr>
            <a:xfrm>
              <a:off x="7399440" y="5832720"/>
              <a:ext cx="408960" cy="201240"/>
              <a:chOff x="7399440" y="5832720"/>
              <a:chExt cx="408960" cy="201240"/>
            </a:xfrm>
          </p:grpSpPr>
          <p:sp>
            <p:nvSpPr>
              <p:cNvPr id="478" name=""/>
              <p:cNvSpPr/>
              <p:nvPr/>
            </p:nvSpPr>
            <p:spPr>
              <a:xfrm flipH="1">
                <a:off x="7603920" y="5832720"/>
                <a:ext cx="204480" cy="20124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>
                <a:off x="7399440" y="583272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6717600" y="5631480"/>
              <a:ext cx="408960" cy="402120"/>
              <a:chOff x="6717600" y="5631480"/>
              <a:chExt cx="408960" cy="402120"/>
            </a:xfrm>
          </p:grpSpPr>
          <p:sp>
            <p:nvSpPr>
              <p:cNvPr id="481" name=""/>
              <p:cNvSpPr/>
              <p:nvPr/>
            </p:nvSpPr>
            <p:spPr>
              <a:xfrm flipH="1">
                <a:off x="6922080" y="5832720"/>
                <a:ext cx="204480" cy="200880"/>
              </a:xfrm>
              <a:prstGeom prst="rect">
                <a:avLst/>
              </a:prstGeom>
              <a:solidFill>
                <a:srgbClr val="00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671760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H="1">
                <a:off x="692208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71760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5627520" y="5631480"/>
              <a:ext cx="817560" cy="402120"/>
              <a:chOff x="5627520" y="5631480"/>
              <a:chExt cx="817560" cy="402120"/>
            </a:xfrm>
          </p:grpSpPr>
          <p:sp>
            <p:nvSpPr>
              <p:cNvPr id="486" name=""/>
              <p:cNvSpPr/>
              <p:nvPr/>
            </p:nvSpPr>
            <p:spPr>
              <a:xfrm flipH="1">
                <a:off x="624060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6036120" y="5832720"/>
                <a:ext cx="20412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83164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627160" y="5832720"/>
                <a:ext cx="20412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624060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>
                <a:off x="6036120" y="5631480"/>
                <a:ext cx="20412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H="1">
                <a:off x="583164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H="1">
                <a:off x="5627160" y="5631480"/>
                <a:ext cx="20412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4536720" y="5229360"/>
              <a:ext cx="817560" cy="804240"/>
              <a:chOff x="4536720" y="5229360"/>
              <a:chExt cx="817560" cy="804240"/>
            </a:xfrm>
          </p:grpSpPr>
          <p:sp>
            <p:nvSpPr>
              <p:cNvPr id="495" name=""/>
              <p:cNvSpPr/>
              <p:nvPr/>
            </p:nvSpPr>
            <p:spPr>
              <a:xfrm flipH="1">
                <a:off x="514980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H="1">
                <a:off x="4945320" y="5832720"/>
                <a:ext cx="20412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H="1">
                <a:off x="474084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536360" y="5832720"/>
                <a:ext cx="20412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514980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4945320" y="5631480"/>
                <a:ext cx="20412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H="1">
                <a:off x="474084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H="1">
                <a:off x="4536360" y="5631480"/>
                <a:ext cx="20412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H="1">
                <a:off x="514980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>
                <a:off x="4945320" y="5430600"/>
                <a:ext cx="20412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474084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>
                <a:off x="4536360" y="5430600"/>
                <a:ext cx="20412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514980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4945320" y="5229360"/>
                <a:ext cx="20412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474084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H="1">
                <a:off x="4536360" y="5229360"/>
                <a:ext cx="20412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2626920" y="5229360"/>
              <a:ext cx="1636200" cy="804240"/>
              <a:chOff x="2626920" y="5229360"/>
              <a:chExt cx="1636200" cy="804240"/>
            </a:xfrm>
          </p:grpSpPr>
          <p:sp>
            <p:nvSpPr>
              <p:cNvPr id="512" name=""/>
              <p:cNvSpPr/>
              <p:nvPr/>
            </p:nvSpPr>
            <p:spPr>
              <a:xfrm flipH="1">
                <a:off x="405864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385416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364968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344520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05864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H="1">
                <a:off x="385416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H="1">
                <a:off x="364968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H="1">
                <a:off x="344520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405864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H="1">
                <a:off x="385416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H="1">
                <a:off x="364968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344520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405864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385416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H="1">
                <a:off x="364968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H="1">
                <a:off x="344520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324072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303624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H="1">
                <a:off x="2831400" y="583272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H="1">
                <a:off x="2626920" y="583272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324072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303624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2831400" y="563148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H="1">
                <a:off x="2626920" y="563148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324072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303624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H="1">
                <a:off x="2831400" y="5430600"/>
                <a:ext cx="204480" cy="2008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H="1">
                <a:off x="2626920" y="5430600"/>
                <a:ext cx="204480" cy="20088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324072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303624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H="1">
                <a:off x="2831400" y="5229360"/>
                <a:ext cx="204480" cy="2012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H="1">
                <a:off x="2626920" y="5229360"/>
                <a:ext cx="204480" cy="201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4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54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54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55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peating patterns have a core uni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6" name=""/>
          <p:cNvSpPr/>
          <p:nvPr/>
        </p:nvSpPr>
        <p:spPr>
          <a:xfrm>
            <a:off x="2050920" y="1700280"/>
            <a:ext cx="59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Repeat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95640" y="530064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Stamping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30200" y="2924280"/>
            <a:ext cx="6913800" cy="21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95520" y="4349880"/>
            <a:ext cx="716040" cy="231120"/>
            <a:chOff x="3395520" y="4349880"/>
            <a:chExt cx="716040" cy="231120"/>
          </a:xfrm>
        </p:grpSpPr>
        <p:sp>
          <p:nvSpPr>
            <p:cNvPr id="560" name=""/>
            <p:cNvSpPr/>
            <p:nvPr/>
          </p:nvSpPr>
          <p:spPr>
            <a:xfrm>
              <a:off x="3395520" y="4349880"/>
              <a:ext cx="228600" cy="228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882960" y="4352760"/>
              <a:ext cx="228600" cy="228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43200" y="4352760"/>
              <a:ext cx="228600" cy="228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3419280" y="3390840"/>
            <a:ext cx="686160" cy="685440"/>
            <a:chOff x="3419280" y="3390840"/>
            <a:chExt cx="686160" cy="685440"/>
          </a:xfrm>
        </p:grpSpPr>
        <p:sp>
          <p:nvSpPr>
            <p:cNvPr id="564" name=""/>
            <p:cNvSpPr/>
            <p:nvPr/>
          </p:nvSpPr>
          <p:spPr>
            <a:xfrm>
              <a:off x="3648240" y="3390840"/>
              <a:ext cx="228600" cy="57132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419280" y="3390840"/>
              <a:ext cx="686160" cy="685440"/>
              <a:chOff x="3419280" y="3390840"/>
              <a:chExt cx="686160" cy="685440"/>
            </a:xfrm>
          </p:grpSpPr>
          <p:sp>
            <p:nvSpPr>
              <p:cNvPr id="566" name=""/>
              <p:cNvSpPr/>
              <p:nvPr/>
            </p:nvSpPr>
            <p:spPr>
              <a:xfrm>
                <a:off x="3419640" y="3390840"/>
                <a:ext cx="228600" cy="5713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 rot="16200000">
                <a:off x="3419280" y="3847320"/>
                <a:ext cx="228600" cy="228600"/>
              </a:xfrm>
              <a:prstGeom prst="flowChartOnlineStorag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 rot="16200000">
                <a:off x="3647880" y="3847320"/>
                <a:ext cx="228600" cy="228600"/>
              </a:xfrm>
              <a:prstGeom prst="flowChartOnlineStorage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76840" y="3390840"/>
                <a:ext cx="228600" cy="571320"/>
              </a:xfrm>
              <a:prstGeom prst="can">
                <a:avLst>
                  <a:gd name="adj" fmla="val 25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 rot="16200000">
                <a:off x="3876480" y="3847320"/>
                <a:ext cx="228600" cy="228600"/>
              </a:xfrm>
              <a:prstGeom prst="flowChartOnlineStorage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4143240" y="4351320"/>
            <a:ext cx="716040" cy="231840"/>
            <a:chOff x="4143240" y="4351320"/>
            <a:chExt cx="716040" cy="231840"/>
          </a:xfrm>
        </p:grpSpPr>
        <p:sp>
          <p:nvSpPr>
            <p:cNvPr id="572" name=""/>
            <p:cNvSpPr/>
            <p:nvPr/>
          </p:nvSpPr>
          <p:spPr>
            <a:xfrm>
              <a:off x="4143240" y="435132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630680" y="435456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90920" y="4354560"/>
              <a:ext cx="228600" cy="228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863960" y="4349880"/>
            <a:ext cx="716040" cy="231120"/>
            <a:chOff x="4863960" y="4349880"/>
            <a:chExt cx="716040" cy="231120"/>
          </a:xfrm>
        </p:grpSpPr>
        <p:sp>
          <p:nvSpPr>
            <p:cNvPr id="576" name=""/>
            <p:cNvSpPr/>
            <p:nvPr/>
          </p:nvSpPr>
          <p:spPr>
            <a:xfrm>
              <a:off x="4863960" y="4349880"/>
              <a:ext cx="228600" cy="228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351400" y="4352760"/>
              <a:ext cx="228600" cy="228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11640" y="4352760"/>
              <a:ext cx="228600" cy="22824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84680" y="4351320"/>
            <a:ext cx="716040" cy="231840"/>
            <a:chOff x="5584680" y="4351320"/>
            <a:chExt cx="716040" cy="231840"/>
          </a:xfrm>
        </p:grpSpPr>
        <p:sp>
          <p:nvSpPr>
            <p:cNvPr id="580" name=""/>
            <p:cNvSpPr/>
            <p:nvPr/>
          </p:nvSpPr>
          <p:spPr>
            <a:xfrm>
              <a:off x="5584680" y="435132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72120" y="435456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832360" y="4354560"/>
              <a:ext cx="228600" cy="228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3409920" y="4351320"/>
            <a:ext cx="716040" cy="231840"/>
            <a:chOff x="3409920" y="4351320"/>
            <a:chExt cx="716040" cy="231840"/>
          </a:xfrm>
        </p:grpSpPr>
        <p:sp>
          <p:nvSpPr>
            <p:cNvPr id="584" name=""/>
            <p:cNvSpPr/>
            <p:nvPr/>
          </p:nvSpPr>
          <p:spPr>
            <a:xfrm>
              <a:off x="3409920" y="435132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897360" y="4354560"/>
              <a:ext cx="228600" cy="2286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57600" y="4354560"/>
              <a:ext cx="228600" cy="2286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3399 L 1.66667E-006 0.06057 E">
                                      <p:cBhvr>
                                        <p:cTn id="205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0.06058 L 0.00191 -0.02335 E">
                                      <p:cBhvr>
                                        <p:cTn id="212" dur="500" fill="hold"/>
                                        <p:tgtEl>
                                          <p:spTgt spid="5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4.62428E-006 L -0.07587 -4.62428E-006 E">
                                      <p:cBhvr>
                                        <p:cTn id="215" dur="1000" fill="hold"/>
                                        <p:tgtEl>
                                          <p:spTgt spid="5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59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59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59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peating patterns are not always lin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9" name=""/>
          <p:cNvSpPr/>
          <p:nvPr/>
        </p:nvSpPr>
        <p:spPr>
          <a:xfrm>
            <a:off x="1981080" y="1773360"/>
            <a:ext cx="59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Repeat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5003640" y="5229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Rows and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900000" y="5157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yclical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2340000" y="2565360"/>
            <a:ext cx="622440" cy="68580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571680" cy="74592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3"/>
          <a:stretch/>
        </p:blipFill>
        <p:spPr>
          <a:xfrm>
            <a:off x="2843280" y="3502080"/>
            <a:ext cx="984240" cy="5144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4"/>
          <a:stretch/>
        </p:blipFill>
        <p:spPr>
          <a:xfrm rot="20051400">
            <a:off x="1860480" y="2952360"/>
            <a:ext cx="479520" cy="33336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5"/>
          <a:stretch/>
        </p:blipFill>
        <p:spPr>
          <a:xfrm rot="3334200">
            <a:off x="2925360" y="3030480"/>
            <a:ext cx="552600" cy="28908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6"/>
          <a:stretch/>
        </p:blipFill>
        <p:spPr>
          <a:xfrm rot="8752800">
            <a:off x="3059280" y="4224240"/>
            <a:ext cx="480960" cy="33192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7"/>
          <a:stretch/>
        </p:blipFill>
        <p:spPr>
          <a:xfrm>
            <a:off x="2244600" y="4408560"/>
            <a:ext cx="822600" cy="53316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8"/>
          <a:stretch/>
        </p:blipFill>
        <p:spPr>
          <a:xfrm rot="14762400">
            <a:off x="1727640" y="4189680"/>
            <a:ext cx="554040" cy="28908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3708360" y="5922000"/>
            <a:ext cx="501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standards.nctm.org/document/eexamples/chap4/4.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0"/>
          <a:stretch/>
        </p:blipFill>
        <p:spPr>
          <a:xfrm>
            <a:off x="5148360" y="2492280"/>
            <a:ext cx="1657080" cy="16048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11"/>
          <a:stretch/>
        </p:blipFill>
        <p:spPr>
          <a:xfrm>
            <a:off x="6227640" y="3645000"/>
            <a:ext cx="1598760" cy="15858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617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618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622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4" name=""/>
          <p:cNvSpPr/>
          <p:nvPr/>
        </p:nvSpPr>
        <p:spPr>
          <a:xfrm>
            <a:off x="1979640" y="162864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Repeat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268360" y="494172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5372280" cy="231300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peating patterns are not always linear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539640" y="5950080"/>
            <a:ext cx="6120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istening Kit Level 4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p. 2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4), by D. Gagn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é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2001, Red Deer, AB: Themes &amp; Variations. Copyright 2001 by the author. Adap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633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634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638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0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77336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042920" y="5157720"/>
            <a:ext cx="748836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redicting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aking the link between repeating and increasing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3769920" y="3065400"/>
            <a:ext cx="2001960" cy="1116000"/>
            <a:chOff x="3769920" y="3065400"/>
            <a:chExt cx="2001960" cy="1116000"/>
          </a:xfrm>
        </p:grpSpPr>
        <p:grpSp>
          <p:nvGrpSpPr>
            <p:cNvPr id="644" name=""/>
            <p:cNvGrpSpPr/>
            <p:nvPr/>
          </p:nvGrpSpPr>
          <p:grpSpPr>
            <a:xfrm>
              <a:off x="3770280" y="3065400"/>
              <a:ext cx="2001600" cy="428760"/>
              <a:chOff x="3770280" y="3065400"/>
              <a:chExt cx="2001600" cy="428760"/>
            </a:xfrm>
          </p:grpSpPr>
          <p:sp>
            <p:nvSpPr>
              <p:cNvPr id="645" name=""/>
              <p:cNvSpPr/>
              <p:nvPr/>
            </p:nvSpPr>
            <p:spPr>
              <a:xfrm>
                <a:off x="3992400" y="3065400"/>
                <a:ext cx="444600" cy="428760"/>
              </a:xfrm>
              <a:prstGeom prst="hexagon">
                <a:avLst>
                  <a:gd name="adj" fmla="val 25924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770280" y="3279600"/>
                <a:ext cx="222120" cy="21456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517640" y="3065400"/>
                <a:ext cx="444600" cy="428760"/>
              </a:xfrm>
              <a:prstGeom prst="hexagon">
                <a:avLst>
                  <a:gd name="adj" fmla="val 25924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993560" y="3279600"/>
                <a:ext cx="444600" cy="214560"/>
              </a:xfrm>
              <a:custGeom>
                <a:avLst/>
                <a:gdLst>
                  <a:gd name="textAreaLeft" fmla="*/ 97560 w 444600"/>
                  <a:gd name="textAreaRight" fmla="*/ 347040 w 444600"/>
                  <a:gd name="textAreaTop" fmla="*/ 47160 h 214560"/>
                  <a:gd name="textAreaBottom" fmla="*/ 167400 h 21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438520" y="3279600"/>
                <a:ext cx="333360" cy="214560"/>
              </a:xfrm>
              <a:prstGeom prst="parallelogram">
                <a:avLst>
                  <a:gd name="adj" fmla="val 50351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769920" y="3619440"/>
              <a:ext cx="1916280" cy="561960"/>
              <a:chOff x="3769920" y="3619440"/>
              <a:chExt cx="1916280" cy="561960"/>
            </a:xfrm>
          </p:grpSpPr>
          <p:sp>
            <p:nvSpPr>
              <p:cNvPr id="651" name=""/>
              <p:cNvSpPr/>
              <p:nvPr/>
            </p:nvSpPr>
            <p:spPr>
              <a:xfrm>
                <a:off x="4646520" y="3760920"/>
                <a:ext cx="37476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5400000">
                <a:off x="4657320" y="2732040"/>
                <a:ext cx="141480" cy="1916280"/>
              </a:xfrm>
              <a:custGeom>
                <a:avLst/>
                <a:gdLst>
                  <a:gd name="textAreaLeft" fmla="*/ 0 w 141480"/>
                  <a:gd name="textAreaRight" fmla="*/ 99360 w 141480"/>
                  <a:gd name="textAreaTop" fmla="*/ 9360 h 1916280"/>
                  <a:gd name="textAreaBottom" fmla="*/ 1906920 h 19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8"/>
                      <a:pt x="21600" y="216"/>
                    </a:cubicBezTo>
                    <a:lnTo>
                      <a:pt x="21600" y="21384"/>
                    </a:lnTo>
                    <a:cubicBezTo>
                      <a:pt x="21600" y="21492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3" name=""/>
          <p:cNvGrpSpPr/>
          <p:nvPr/>
        </p:nvGrpSpPr>
        <p:grpSpPr>
          <a:xfrm>
            <a:off x="5772240" y="3062160"/>
            <a:ext cx="2003400" cy="1119240"/>
            <a:chOff x="5772240" y="3062160"/>
            <a:chExt cx="2003400" cy="1119240"/>
          </a:xfrm>
        </p:grpSpPr>
        <p:grpSp>
          <p:nvGrpSpPr>
            <p:cNvPr id="654" name=""/>
            <p:cNvGrpSpPr/>
            <p:nvPr/>
          </p:nvGrpSpPr>
          <p:grpSpPr>
            <a:xfrm>
              <a:off x="5772240" y="3062160"/>
              <a:ext cx="2003400" cy="428760"/>
              <a:chOff x="5772240" y="3062160"/>
              <a:chExt cx="2003400" cy="428760"/>
            </a:xfrm>
          </p:grpSpPr>
          <p:sp>
            <p:nvSpPr>
              <p:cNvPr id="655" name=""/>
              <p:cNvSpPr/>
              <p:nvPr/>
            </p:nvSpPr>
            <p:spPr>
              <a:xfrm>
                <a:off x="5994720" y="3062160"/>
                <a:ext cx="444960" cy="428760"/>
              </a:xfrm>
              <a:prstGeom prst="hexagon">
                <a:avLst>
                  <a:gd name="adj" fmla="val 25945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772240" y="3276360"/>
                <a:ext cx="222480" cy="21456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520320" y="3062160"/>
                <a:ext cx="444960" cy="428760"/>
              </a:xfrm>
              <a:prstGeom prst="hexagon">
                <a:avLst>
                  <a:gd name="adj" fmla="val 25945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996600" y="3276360"/>
                <a:ext cx="444960" cy="214560"/>
              </a:xfrm>
              <a:custGeom>
                <a:avLst/>
                <a:gdLst>
                  <a:gd name="textAreaLeft" fmla="*/ 97920 w 444960"/>
                  <a:gd name="textAreaRight" fmla="*/ 347040 w 444960"/>
                  <a:gd name="textAreaTop" fmla="*/ 47160 h 214560"/>
                  <a:gd name="textAreaBottom" fmla="*/ 167400 h 214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441920" y="3276360"/>
                <a:ext cx="333720" cy="214560"/>
              </a:xfrm>
              <a:prstGeom prst="parallelogram">
                <a:avLst>
                  <a:gd name="adj" fmla="val 50405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5772240" y="3619440"/>
              <a:ext cx="1915920" cy="561960"/>
              <a:chOff x="5772240" y="3619440"/>
              <a:chExt cx="1915920" cy="561960"/>
            </a:xfrm>
          </p:grpSpPr>
          <p:sp>
            <p:nvSpPr>
              <p:cNvPr id="661" name=""/>
              <p:cNvSpPr/>
              <p:nvPr/>
            </p:nvSpPr>
            <p:spPr>
              <a:xfrm>
                <a:off x="6648480" y="3760920"/>
                <a:ext cx="3762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5400000">
                <a:off x="6659280" y="2732040"/>
                <a:ext cx="141480" cy="1915920"/>
              </a:xfrm>
              <a:custGeom>
                <a:avLst/>
                <a:gdLst>
                  <a:gd name="textAreaLeft" fmla="*/ 0 w 141480"/>
                  <a:gd name="textAreaRight" fmla="*/ 99360 w 141480"/>
                  <a:gd name="textAreaTop" fmla="*/ 9360 h 1915920"/>
                  <a:gd name="textAreaBottom" fmla="*/ 1906560 h 191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8"/>
                      <a:pt x="21600" y="216"/>
                    </a:cubicBezTo>
                    <a:lnTo>
                      <a:pt x="21600" y="21384"/>
                    </a:lnTo>
                    <a:cubicBezTo>
                      <a:pt x="21600" y="21492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3" name=""/>
          <p:cNvGrpSpPr/>
          <p:nvPr/>
        </p:nvGrpSpPr>
        <p:grpSpPr>
          <a:xfrm>
            <a:off x="1763280" y="3057480"/>
            <a:ext cx="2007000" cy="1123920"/>
            <a:chOff x="1763280" y="3057480"/>
            <a:chExt cx="2007000" cy="1123920"/>
          </a:xfrm>
        </p:grpSpPr>
        <p:grpSp>
          <p:nvGrpSpPr>
            <p:cNvPr id="664" name=""/>
            <p:cNvGrpSpPr/>
            <p:nvPr/>
          </p:nvGrpSpPr>
          <p:grpSpPr>
            <a:xfrm>
              <a:off x="1766880" y="3057480"/>
              <a:ext cx="2003400" cy="426960"/>
              <a:chOff x="1766880" y="3057480"/>
              <a:chExt cx="2003400" cy="426960"/>
            </a:xfrm>
          </p:grpSpPr>
          <p:sp>
            <p:nvSpPr>
              <p:cNvPr id="665" name=""/>
              <p:cNvSpPr/>
              <p:nvPr/>
            </p:nvSpPr>
            <p:spPr>
              <a:xfrm>
                <a:off x="1989360" y="3057480"/>
                <a:ext cx="444960" cy="426960"/>
              </a:xfrm>
              <a:prstGeom prst="hexagon">
                <a:avLst>
                  <a:gd name="adj" fmla="val 26054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766880" y="3270960"/>
                <a:ext cx="222480" cy="21348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514960" y="3057480"/>
                <a:ext cx="444960" cy="426960"/>
              </a:xfrm>
              <a:prstGeom prst="hexagon">
                <a:avLst>
                  <a:gd name="adj" fmla="val 26054"/>
                  <a:gd name="vf" fmla="val 115470"/>
                </a:avLst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991240" y="3270960"/>
                <a:ext cx="444960" cy="213480"/>
              </a:xfrm>
              <a:custGeom>
                <a:avLst/>
                <a:gdLst>
                  <a:gd name="textAreaLeft" fmla="*/ 97920 w 444960"/>
                  <a:gd name="textAreaRight" fmla="*/ 347040 w 444960"/>
                  <a:gd name="textAreaTop" fmla="*/ 46800 h 213480"/>
                  <a:gd name="textAreaBottom" fmla="*/ 166680 h 21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36560" y="3270960"/>
                <a:ext cx="333720" cy="213480"/>
              </a:xfrm>
              <a:prstGeom prst="parallelogram">
                <a:avLst>
                  <a:gd name="adj" fmla="val 50660"/>
                </a:avLst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1763280" y="3619440"/>
              <a:ext cx="1916280" cy="561960"/>
              <a:chOff x="1763280" y="3619440"/>
              <a:chExt cx="1916280" cy="561960"/>
            </a:xfrm>
          </p:grpSpPr>
          <p:sp>
            <p:nvSpPr>
              <p:cNvPr id="671" name=""/>
              <p:cNvSpPr/>
              <p:nvPr/>
            </p:nvSpPr>
            <p:spPr>
              <a:xfrm>
                <a:off x="2517840" y="3760920"/>
                <a:ext cx="376200" cy="42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5400000">
                <a:off x="2650680" y="2732040"/>
                <a:ext cx="141480" cy="1916280"/>
              </a:xfrm>
              <a:custGeom>
                <a:avLst/>
                <a:gdLst>
                  <a:gd name="textAreaLeft" fmla="*/ 0 w 141480"/>
                  <a:gd name="textAreaRight" fmla="*/ 99360 w 141480"/>
                  <a:gd name="textAreaTop" fmla="*/ 9360 h 1916280"/>
                  <a:gd name="textAreaBottom" fmla="*/ 1906920 h 1916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108"/>
                      <a:pt x="21600" y="216"/>
                    </a:cubicBezTo>
                    <a:lnTo>
                      <a:pt x="21600" y="21384"/>
                    </a:lnTo>
                    <a:cubicBezTo>
                      <a:pt x="21600" y="21492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3" name=""/>
          <p:cNvGrpSpPr/>
          <p:nvPr/>
        </p:nvGrpSpPr>
        <p:grpSpPr>
          <a:xfrm>
            <a:off x="2517840" y="2637000"/>
            <a:ext cx="4646520" cy="420480"/>
            <a:chOff x="2517840" y="2637000"/>
            <a:chExt cx="4646520" cy="420480"/>
          </a:xfrm>
        </p:grpSpPr>
        <p:sp>
          <p:nvSpPr>
            <p:cNvPr id="674" name=""/>
            <p:cNvSpPr/>
            <p:nvPr/>
          </p:nvSpPr>
          <p:spPr>
            <a:xfrm>
              <a:off x="2517840" y="2637000"/>
              <a:ext cx="5094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521240" y="2637000"/>
              <a:ext cx="62712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523200" y="2637000"/>
              <a:ext cx="6411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2987640" y="4292640"/>
            <a:ext cx="345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) What would the 20th shape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) What would the 30th shape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) What would the 32nd shape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68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68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68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9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0" name=""/>
          <p:cNvSpPr/>
          <p:nvPr/>
        </p:nvSpPr>
        <p:spPr>
          <a:xfrm>
            <a:off x="3492360" y="162864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517840" y="2637000"/>
            <a:ext cx="509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1766880" y="3057480"/>
            <a:ext cx="2003400" cy="426960"/>
            <a:chOff x="1766880" y="3057480"/>
            <a:chExt cx="2003400" cy="426960"/>
          </a:xfrm>
        </p:grpSpPr>
        <p:sp>
          <p:nvSpPr>
            <p:cNvPr id="693" name=""/>
            <p:cNvSpPr/>
            <p:nvPr/>
          </p:nvSpPr>
          <p:spPr>
            <a:xfrm>
              <a:off x="1989360" y="3057480"/>
              <a:ext cx="444960" cy="426960"/>
            </a:xfrm>
            <a:prstGeom prst="hexagon">
              <a:avLst>
                <a:gd name="adj" fmla="val 260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66880" y="3270960"/>
              <a:ext cx="222480" cy="2134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514960" y="3057480"/>
              <a:ext cx="444960" cy="426960"/>
            </a:xfrm>
            <a:prstGeom prst="hexagon">
              <a:avLst>
                <a:gd name="adj" fmla="val 260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1240" y="3270960"/>
              <a:ext cx="444960" cy="213480"/>
            </a:xfrm>
            <a:custGeom>
              <a:avLst/>
              <a:gdLst>
                <a:gd name="textAreaLeft" fmla="*/ 97920 w 444960"/>
                <a:gd name="textAreaRight" fmla="*/ 347040 w 444960"/>
                <a:gd name="textAreaTop" fmla="*/ 46800 h 213480"/>
                <a:gd name="textAreaBottom" fmla="*/ 166680 h 21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36560" y="3270960"/>
              <a:ext cx="333720" cy="213480"/>
            </a:xfrm>
            <a:prstGeom prst="parallelogram">
              <a:avLst>
                <a:gd name="adj" fmla="val 5066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3770280" y="3065400"/>
            <a:ext cx="2001600" cy="428760"/>
            <a:chOff x="3770280" y="3065400"/>
            <a:chExt cx="2001600" cy="428760"/>
          </a:xfrm>
        </p:grpSpPr>
        <p:sp>
          <p:nvSpPr>
            <p:cNvPr id="699" name=""/>
            <p:cNvSpPr/>
            <p:nvPr/>
          </p:nvSpPr>
          <p:spPr>
            <a:xfrm>
              <a:off x="3992400" y="3065400"/>
              <a:ext cx="444600" cy="428760"/>
            </a:xfrm>
            <a:prstGeom prst="hexagon">
              <a:avLst>
                <a:gd name="adj" fmla="val 2592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770280" y="3279600"/>
              <a:ext cx="222120" cy="2145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17640" y="3065400"/>
              <a:ext cx="444600" cy="428760"/>
            </a:xfrm>
            <a:prstGeom prst="hexagon">
              <a:avLst>
                <a:gd name="adj" fmla="val 2592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993560" y="3279600"/>
              <a:ext cx="444600" cy="214560"/>
            </a:xfrm>
            <a:custGeom>
              <a:avLst/>
              <a:gdLst>
                <a:gd name="textAreaLeft" fmla="*/ 97560 w 444600"/>
                <a:gd name="textAreaRight" fmla="*/ 347040 w 444600"/>
                <a:gd name="textAreaTop" fmla="*/ 47160 h 214560"/>
                <a:gd name="textAreaBottom" fmla="*/ 16740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438520" y="3279600"/>
              <a:ext cx="333360" cy="214560"/>
            </a:xfrm>
            <a:prstGeom prst="parallelogram">
              <a:avLst>
                <a:gd name="adj" fmla="val 5035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5772240" y="3062160"/>
            <a:ext cx="2003400" cy="428760"/>
            <a:chOff x="5772240" y="3062160"/>
            <a:chExt cx="2003400" cy="428760"/>
          </a:xfrm>
        </p:grpSpPr>
        <p:sp>
          <p:nvSpPr>
            <p:cNvPr id="705" name=""/>
            <p:cNvSpPr/>
            <p:nvPr/>
          </p:nvSpPr>
          <p:spPr>
            <a:xfrm>
              <a:off x="5994720" y="3062160"/>
              <a:ext cx="444960" cy="428760"/>
            </a:xfrm>
            <a:prstGeom prst="hexagon">
              <a:avLst>
                <a:gd name="adj" fmla="val 2594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772240" y="3276360"/>
              <a:ext cx="222480" cy="2145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20320" y="3062160"/>
              <a:ext cx="444960" cy="428760"/>
            </a:xfrm>
            <a:prstGeom prst="hexagon">
              <a:avLst>
                <a:gd name="adj" fmla="val 2594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6600" y="3276360"/>
              <a:ext cx="444960" cy="214560"/>
            </a:xfrm>
            <a:custGeom>
              <a:avLst/>
              <a:gdLst>
                <a:gd name="textAreaLeft" fmla="*/ 97920 w 444960"/>
                <a:gd name="textAreaRight" fmla="*/ 347040 w 444960"/>
                <a:gd name="textAreaTop" fmla="*/ 47160 h 214560"/>
                <a:gd name="textAreaBottom" fmla="*/ 16740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41920" y="3276360"/>
              <a:ext cx="333720" cy="214560"/>
            </a:xfrm>
            <a:prstGeom prst="parallelogram">
              <a:avLst>
                <a:gd name="adj" fmla="val 50405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3769920" y="3619440"/>
            <a:ext cx="1916280" cy="561960"/>
            <a:chOff x="3769920" y="3619440"/>
            <a:chExt cx="1916280" cy="561960"/>
          </a:xfrm>
        </p:grpSpPr>
        <p:sp>
          <p:nvSpPr>
            <p:cNvPr id="711" name=""/>
            <p:cNvSpPr/>
            <p:nvPr/>
          </p:nvSpPr>
          <p:spPr>
            <a:xfrm>
              <a:off x="4646520" y="3760920"/>
              <a:ext cx="3747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5400000">
              <a:off x="4657320" y="2732040"/>
              <a:ext cx="141480" cy="191628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6280"/>
                <a:gd name="textAreaBottom" fmla="*/ 1906920 h 19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5772240" y="3619440"/>
            <a:ext cx="1915920" cy="561960"/>
            <a:chOff x="5772240" y="3619440"/>
            <a:chExt cx="1915920" cy="561960"/>
          </a:xfrm>
        </p:grpSpPr>
        <p:sp>
          <p:nvSpPr>
            <p:cNvPr id="714" name=""/>
            <p:cNvSpPr/>
            <p:nvPr/>
          </p:nvSpPr>
          <p:spPr>
            <a:xfrm>
              <a:off x="6648480" y="3760920"/>
              <a:ext cx="376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5400000">
              <a:off x="6659280" y="2732040"/>
              <a:ext cx="141480" cy="191592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5920"/>
                <a:gd name="textAreaBottom" fmla="*/ 1906560 h 19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1763280" y="3619440"/>
            <a:ext cx="1916280" cy="561960"/>
            <a:chOff x="1763280" y="3619440"/>
            <a:chExt cx="1916280" cy="561960"/>
          </a:xfrm>
        </p:grpSpPr>
        <p:sp>
          <p:nvSpPr>
            <p:cNvPr id="717" name=""/>
            <p:cNvSpPr/>
            <p:nvPr/>
          </p:nvSpPr>
          <p:spPr>
            <a:xfrm>
              <a:off x="2517840" y="3760920"/>
              <a:ext cx="376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5400000">
              <a:off x="2650680" y="2732040"/>
              <a:ext cx="141480" cy="191628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6280"/>
                <a:gd name="textAreaBottom" fmla="*/ 1906920 h 19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4521240" y="2637000"/>
            <a:ext cx="627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6523200" y="2637000"/>
            <a:ext cx="641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"/>
          <p:cNvGrpSpPr/>
          <p:nvPr/>
        </p:nvGrpSpPr>
        <p:grpSpPr>
          <a:xfrm>
            <a:off x="1547280" y="4292640"/>
            <a:ext cx="6279120" cy="596520"/>
            <a:chOff x="1547280" y="4292640"/>
            <a:chExt cx="6279120" cy="596520"/>
          </a:xfrm>
        </p:grpSpPr>
        <p:grpSp>
          <p:nvGrpSpPr>
            <p:cNvPr id="722" name=""/>
            <p:cNvGrpSpPr/>
            <p:nvPr/>
          </p:nvGrpSpPr>
          <p:grpSpPr>
            <a:xfrm>
              <a:off x="1547280" y="4292640"/>
              <a:ext cx="6017400" cy="596520"/>
              <a:chOff x="1547280" y="4292640"/>
              <a:chExt cx="6017400" cy="596520"/>
            </a:xfrm>
          </p:grpSpPr>
          <p:sp>
            <p:nvSpPr>
              <p:cNvPr id="723" name=""/>
              <p:cNvSpPr/>
              <p:nvPr/>
            </p:nvSpPr>
            <p:spPr>
              <a:xfrm>
                <a:off x="6434640" y="4529880"/>
                <a:ext cx="11300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  31  3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602680" y="4546080"/>
                <a:ext cx="392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02400" y="4529880"/>
                <a:ext cx="392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060720" y="4529880"/>
                <a:ext cx="392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2201400" y="4521240"/>
                <a:ext cx="392400" cy="34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780080" y="4537800"/>
                <a:ext cx="392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1547280" y="4292640"/>
                <a:ext cx="5494320" cy="228600"/>
                <a:chOff x="1547280" y="4292640"/>
                <a:chExt cx="5494320" cy="228600"/>
              </a:xfrm>
            </p:grpSpPr>
            <p:sp>
              <p:nvSpPr>
                <p:cNvPr id="730" name=""/>
                <p:cNvSpPr/>
                <p:nvPr/>
              </p:nvSpPr>
              <p:spPr>
                <a:xfrm rot="5400000">
                  <a:off x="185688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rot="5400000">
                  <a:off x="270468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rot="5400000">
                  <a:off x="355284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 rot="5400000">
                  <a:off x="440064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 rot="5400000">
                  <a:off x="524880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 rot="5400000">
                  <a:off x="6096960" y="3983040"/>
                  <a:ext cx="228600" cy="847800"/>
                </a:xfrm>
                <a:custGeom>
                  <a:avLst/>
                  <a:gdLst>
                    <a:gd name="textAreaLeft" fmla="*/ 66960 w 228600"/>
                    <a:gd name="textAreaRight" fmla="*/ 228960 w 228600"/>
                    <a:gd name="textAreaTop" fmla="*/ 212040 h 847800"/>
                    <a:gd name="textAreaBottom" fmla="*/ 636120 h 8478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 rot="5400000">
                  <a:off x="6717960" y="4381920"/>
                  <a:ext cx="50040" cy="215280"/>
                </a:xfrm>
                <a:custGeom>
                  <a:avLst/>
                  <a:gdLst>
                    <a:gd name="textAreaLeft" fmla="*/ 14760 w 50040"/>
                    <a:gd name="textAreaRight" fmla="*/ 50400 w 50040"/>
                    <a:gd name="textAreaTop" fmla="*/ 53640 h 215280"/>
                    <a:gd name="textAreaBottom" fmla="*/ 161640 h 21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 rot="5400000">
                  <a:off x="6908760" y="4385880"/>
                  <a:ext cx="50040" cy="215280"/>
                </a:xfrm>
                <a:custGeom>
                  <a:avLst/>
                  <a:gdLst>
                    <a:gd name="textAreaLeft" fmla="*/ 14760 w 50040"/>
                    <a:gd name="textAreaRight" fmla="*/ 50400 w 50040"/>
                    <a:gd name="textAreaTop" fmla="*/ 53640 h 215280"/>
                    <a:gd name="textAreaBottom" fmla="*/ 161640 h 215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0800" y="0"/>
                        <a:pt x="0" y="5400"/>
                        <a:pt x="0" y="10800"/>
                      </a:cubicBezTo>
                      <a:lnTo>
                        <a:pt x="0" y="10800"/>
                      </a:lnTo>
                      <a:cubicBezTo>
                        <a:pt x="0" y="16200"/>
                        <a:pt x="10800" y="21600"/>
                        <a:pt x="21600" y="216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8" name=""/>
            <p:cNvSpPr/>
            <p:nvPr/>
          </p:nvSpPr>
          <p:spPr>
            <a:xfrm>
              <a:off x="1547640" y="4521240"/>
              <a:ext cx="627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1836720" y="4919760"/>
            <a:ext cx="6480360" cy="596160"/>
            <a:chOff x="1836720" y="4919760"/>
            <a:chExt cx="6480360" cy="596160"/>
          </a:xfrm>
        </p:grpSpPr>
        <p:grpSp>
          <p:nvGrpSpPr>
            <p:cNvPr id="740" name=""/>
            <p:cNvGrpSpPr/>
            <p:nvPr/>
          </p:nvGrpSpPr>
          <p:grpSpPr>
            <a:xfrm>
              <a:off x="1836720" y="5140080"/>
              <a:ext cx="5554800" cy="375840"/>
              <a:chOff x="1836720" y="5140080"/>
              <a:chExt cx="5554800" cy="375840"/>
            </a:xfrm>
          </p:grpSpPr>
          <p:sp>
            <p:nvSpPr>
              <p:cNvPr id="741" name=""/>
              <p:cNvSpPr/>
              <p:nvPr/>
            </p:nvSpPr>
            <p:spPr>
              <a:xfrm>
                <a:off x="1836720" y="5140080"/>
                <a:ext cx="4813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6910200" y="5172840"/>
                <a:ext cx="4813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6068880" y="517284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349520" y="515664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498480" y="515664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2668320" y="514800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236920" y="5164560"/>
                <a:ext cx="39672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1968480" y="4919760"/>
              <a:ext cx="6348600" cy="228600"/>
              <a:chOff x="1968480" y="4919760"/>
              <a:chExt cx="6348600" cy="228600"/>
            </a:xfrm>
          </p:grpSpPr>
          <p:sp>
            <p:nvSpPr>
              <p:cNvPr id="749" name=""/>
              <p:cNvSpPr/>
              <p:nvPr/>
            </p:nvSpPr>
            <p:spPr>
              <a:xfrm>
                <a:off x="1968840" y="5148360"/>
                <a:ext cx="634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rot="5400000">
                <a:off x="228276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rot="5400000">
                <a:off x="313992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rot="5400000">
                <a:off x="3997080" y="4605840"/>
                <a:ext cx="228600" cy="85644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6440"/>
                  <a:gd name="textAreaBottom" fmla="*/ 642600 h 856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rot="5400000">
                <a:off x="485424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rot="5400000">
                <a:off x="571176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rot="5400000">
                <a:off x="6569280" y="4605480"/>
                <a:ext cx="228600" cy="857160"/>
              </a:xfrm>
              <a:custGeom>
                <a:avLst/>
                <a:gdLst>
                  <a:gd name="textAreaLeft" fmla="*/ 66960 w 228600"/>
                  <a:gd name="textAreaRight" fmla="*/ 228960 w 228600"/>
                  <a:gd name="textAreaTop" fmla="*/ 214200 h 857160"/>
                  <a:gd name="textAreaBottom" fmla="*/ 642960 h 857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6" name=""/>
          <p:cNvGrpSpPr/>
          <p:nvPr/>
        </p:nvGrpSpPr>
        <p:grpSpPr>
          <a:xfrm>
            <a:off x="1547280" y="5560920"/>
            <a:ext cx="6464520" cy="604800"/>
            <a:chOff x="1547280" y="5560920"/>
            <a:chExt cx="6464520" cy="604800"/>
          </a:xfrm>
        </p:grpSpPr>
        <p:sp>
          <p:nvSpPr>
            <p:cNvPr id="757" name=""/>
            <p:cNvSpPr/>
            <p:nvPr/>
          </p:nvSpPr>
          <p:spPr>
            <a:xfrm>
              <a:off x="1547640" y="5789520"/>
              <a:ext cx="63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2207160" y="5789520"/>
              <a:ext cx="5804640" cy="376200"/>
              <a:chOff x="2207160" y="5789520"/>
              <a:chExt cx="5804640" cy="376200"/>
            </a:xfrm>
          </p:grpSpPr>
          <p:sp>
            <p:nvSpPr>
              <p:cNvPr id="759" name=""/>
              <p:cNvSpPr/>
              <p:nvPr/>
            </p:nvSpPr>
            <p:spPr>
              <a:xfrm>
                <a:off x="6476400" y="5822640"/>
                <a:ext cx="153540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0     </a:t>
                </a: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2</a:t>
                </a:r>
                <a:r>
                  <a:rPr b="0" lang="en-US" sz="700" spc="-1" strike="noStrike">
                    <a:solidFill>
                      <a:srgbClr val="000000"/>
                    </a:solidFill>
                    <a:latin typeface="Arial"/>
                  </a:rPr>
                  <a:t>  33  34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637240" y="581400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922200" y="579780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073320" y="579780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07160" y="578952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807440" y="5806080"/>
                <a:ext cx="39564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5" name=""/>
            <p:cNvSpPr/>
            <p:nvPr/>
          </p:nvSpPr>
          <p:spPr>
            <a:xfrm rot="5400000">
              <a:off x="186048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000">
              <a:off x="271548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3570840" y="5247720"/>
              <a:ext cx="228600" cy="85464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480 h 854640"/>
                <a:gd name="textAreaBottom" fmla="*/ 641160 h 85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442548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00000">
              <a:off x="528084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613620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 rot="5400000">
              <a:off x="6996240" y="5247720"/>
              <a:ext cx="228600" cy="855000"/>
            </a:xfrm>
            <a:custGeom>
              <a:avLst/>
              <a:gdLst>
                <a:gd name="textAreaLeft" fmla="*/ 66960 w 228600"/>
                <a:gd name="textAreaRight" fmla="*/ 228960 w 228600"/>
                <a:gd name="textAreaTop" fmla="*/ 213840 h 855000"/>
                <a:gd name="textAreaBottom" fmla="*/ 641520 h 85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5400"/>
                    <a:pt x="0" y="10800"/>
                  </a:cubicBezTo>
                  <a:lnTo>
                    <a:pt x="0" y="10800"/>
                  </a:lnTo>
                  <a:cubicBezTo>
                    <a:pt x="0" y="16200"/>
                    <a:pt x="108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6984000" y="5739480"/>
              <a:ext cx="564480" cy="50400"/>
              <a:chOff x="6984000" y="5739480"/>
              <a:chExt cx="564480" cy="50400"/>
            </a:xfrm>
          </p:grpSpPr>
          <p:sp>
            <p:nvSpPr>
              <p:cNvPr id="773" name=""/>
              <p:cNvSpPr/>
              <p:nvPr/>
            </p:nvSpPr>
            <p:spPr>
              <a:xfrm rot="5400000">
                <a:off x="7241040" y="5670360"/>
                <a:ext cx="50040" cy="188640"/>
              </a:xfrm>
              <a:custGeom>
                <a:avLst/>
                <a:gdLst>
                  <a:gd name="textAreaLeft" fmla="*/ 14760 w 50040"/>
                  <a:gd name="textAreaRight" fmla="*/ 50400 w 50040"/>
                  <a:gd name="textAreaTop" fmla="*/ 47160 h 188640"/>
                  <a:gd name="textAreaBottom" fmla="*/ 141480 h 188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5400000">
                <a:off x="7428960" y="5670360"/>
                <a:ext cx="50040" cy="189000"/>
              </a:xfrm>
              <a:custGeom>
                <a:avLst/>
                <a:gdLst>
                  <a:gd name="textAreaLeft" fmla="*/ 14760 w 50040"/>
                  <a:gd name="textAreaRight" fmla="*/ 50400 w 50040"/>
                  <a:gd name="textAreaTop" fmla="*/ 47160 h 189000"/>
                  <a:gd name="textAreaBottom" fmla="*/ 141840 h 18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7053120" y="5670360"/>
                <a:ext cx="50040" cy="188280"/>
              </a:xfrm>
              <a:custGeom>
                <a:avLst/>
                <a:gdLst>
                  <a:gd name="textAreaLeft" fmla="*/ 14760 w 50040"/>
                  <a:gd name="textAreaRight" fmla="*/ 50400 w 50040"/>
                  <a:gd name="textAreaTop" fmla="*/ 47160 h 188280"/>
                  <a:gd name="textAreaBottom" fmla="*/ 141480 h 18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0800" y="0"/>
                      <a:pt x="0" y="5400"/>
                      <a:pt x="0" y="10800"/>
                    </a:cubicBezTo>
                    <a:lnTo>
                      <a:pt x="0" y="10800"/>
                    </a:lnTo>
                    <a:cubicBezTo>
                      <a:pt x="0" y="16200"/>
                      <a:pt x="108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6" name=""/>
          <p:cNvSpPr/>
          <p:nvPr/>
        </p:nvSpPr>
        <p:spPr>
          <a:xfrm>
            <a:off x="1042920" y="1916280"/>
            <a:ext cx="17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at would the 32</a:t>
            </a:r>
            <a:r>
              <a:rPr b="0" lang="en-CA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 shape b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78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78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78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"/>
          <p:cNvSpPr txBox="1"/>
          <p:nvPr/>
        </p:nvSpPr>
        <p:spPr>
          <a:xfrm>
            <a:off x="1763640" y="765000"/>
            <a:ext cx="619308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9" name=""/>
          <p:cNvSpPr/>
          <p:nvPr/>
        </p:nvSpPr>
        <p:spPr>
          <a:xfrm>
            <a:off x="3419640" y="170028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517840" y="2637000"/>
            <a:ext cx="5094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1766880" y="3057480"/>
            <a:ext cx="2003400" cy="426960"/>
            <a:chOff x="1766880" y="3057480"/>
            <a:chExt cx="2003400" cy="426960"/>
          </a:xfrm>
        </p:grpSpPr>
        <p:sp>
          <p:nvSpPr>
            <p:cNvPr id="792" name=""/>
            <p:cNvSpPr/>
            <p:nvPr/>
          </p:nvSpPr>
          <p:spPr>
            <a:xfrm>
              <a:off x="1989360" y="3057480"/>
              <a:ext cx="444960" cy="426960"/>
            </a:xfrm>
            <a:prstGeom prst="hexagon">
              <a:avLst>
                <a:gd name="adj" fmla="val 260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766880" y="3270960"/>
              <a:ext cx="222480" cy="21348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514960" y="3057480"/>
              <a:ext cx="444960" cy="426960"/>
            </a:xfrm>
            <a:prstGeom prst="hexagon">
              <a:avLst>
                <a:gd name="adj" fmla="val 2605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991240" y="3270960"/>
              <a:ext cx="444960" cy="213480"/>
            </a:xfrm>
            <a:custGeom>
              <a:avLst/>
              <a:gdLst>
                <a:gd name="textAreaLeft" fmla="*/ 97920 w 444960"/>
                <a:gd name="textAreaRight" fmla="*/ 347040 w 444960"/>
                <a:gd name="textAreaTop" fmla="*/ 46800 h 213480"/>
                <a:gd name="textAreaBottom" fmla="*/ 166680 h 21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436560" y="3270960"/>
              <a:ext cx="333720" cy="213480"/>
            </a:xfrm>
            <a:prstGeom prst="parallelogram">
              <a:avLst>
                <a:gd name="adj" fmla="val 50660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3770280" y="3065400"/>
            <a:ext cx="2001600" cy="428760"/>
            <a:chOff x="3770280" y="3065400"/>
            <a:chExt cx="2001600" cy="428760"/>
          </a:xfrm>
        </p:grpSpPr>
        <p:sp>
          <p:nvSpPr>
            <p:cNvPr id="798" name=""/>
            <p:cNvSpPr/>
            <p:nvPr/>
          </p:nvSpPr>
          <p:spPr>
            <a:xfrm>
              <a:off x="3992400" y="3065400"/>
              <a:ext cx="444600" cy="428760"/>
            </a:xfrm>
            <a:prstGeom prst="hexagon">
              <a:avLst>
                <a:gd name="adj" fmla="val 2592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3770280" y="3279600"/>
              <a:ext cx="222120" cy="2145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17640" y="3065400"/>
              <a:ext cx="444600" cy="428760"/>
            </a:xfrm>
            <a:prstGeom prst="hexagon">
              <a:avLst>
                <a:gd name="adj" fmla="val 25924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993560" y="3279600"/>
              <a:ext cx="444600" cy="214560"/>
            </a:xfrm>
            <a:custGeom>
              <a:avLst/>
              <a:gdLst>
                <a:gd name="textAreaLeft" fmla="*/ 97560 w 444600"/>
                <a:gd name="textAreaRight" fmla="*/ 347040 w 444600"/>
                <a:gd name="textAreaTop" fmla="*/ 47160 h 214560"/>
                <a:gd name="textAreaBottom" fmla="*/ 16740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438520" y="3279600"/>
              <a:ext cx="333360" cy="214560"/>
            </a:xfrm>
            <a:prstGeom prst="parallelogram">
              <a:avLst>
                <a:gd name="adj" fmla="val 50351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5772240" y="3062160"/>
            <a:ext cx="2003400" cy="428760"/>
            <a:chOff x="5772240" y="3062160"/>
            <a:chExt cx="2003400" cy="428760"/>
          </a:xfrm>
        </p:grpSpPr>
        <p:sp>
          <p:nvSpPr>
            <p:cNvPr id="804" name=""/>
            <p:cNvSpPr/>
            <p:nvPr/>
          </p:nvSpPr>
          <p:spPr>
            <a:xfrm>
              <a:off x="5994720" y="3062160"/>
              <a:ext cx="444960" cy="428760"/>
            </a:xfrm>
            <a:prstGeom prst="hexagon">
              <a:avLst>
                <a:gd name="adj" fmla="val 2594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772240" y="3276360"/>
              <a:ext cx="222480" cy="21456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520320" y="3062160"/>
              <a:ext cx="444960" cy="428760"/>
            </a:xfrm>
            <a:prstGeom prst="hexagon">
              <a:avLst>
                <a:gd name="adj" fmla="val 25945"/>
                <a:gd name="vf" fmla="val 11547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6996600" y="3276360"/>
              <a:ext cx="444960" cy="214560"/>
            </a:xfrm>
            <a:custGeom>
              <a:avLst/>
              <a:gdLst>
                <a:gd name="textAreaLeft" fmla="*/ 97920 w 444960"/>
                <a:gd name="textAreaRight" fmla="*/ 347040 w 444960"/>
                <a:gd name="textAreaTop" fmla="*/ 47160 h 214560"/>
                <a:gd name="textAreaBottom" fmla="*/ 16740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7441920" y="3276360"/>
              <a:ext cx="333720" cy="214560"/>
            </a:xfrm>
            <a:prstGeom prst="parallelogram">
              <a:avLst>
                <a:gd name="adj" fmla="val 50405"/>
              </a:avLst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3769920" y="3619440"/>
            <a:ext cx="1916280" cy="561960"/>
            <a:chOff x="3769920" y="3619440"/>
            <a:chExt cx="1916280" cy="561960"/>
          </a:xfrm>
        </p:grpSpPr>
        <p:sp>
          <p:nvSpPr>
            <p:cNvPr id="810" name=""/>
            <p:cNvSpPr/>
            <p:nvPr/>
          </p:nvSpPr>
          <p:spPr>
            <a:xfrm>
              <a:off x="4646520" y="3760920"/>
              <a:ext cx="37476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 rot="5400000">
              <a:off x="4657320" y="2732040"/>
              <a:ext cx="141480" cy="191628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6280"/>
                <a:gd name="textAreaBottom" fmla="*/ 1906920 h 19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5772240" y="3619440"/>
            <a:ext cx="1915920" cy="561960"/>
            <a:chOff x="5772240" y="3619440"/>
            <a:chExt cx="1915920" cy="561960"/>
          </a:xfrm>
        </p:grpSpPr>
        <p:sp>
          <p:nvSpPr>
            <p:cNvPr id="813" name=""/>
            <p:cNvSpPr/>
            <p:nvPr/>
          </p:nvSpPr>
          <p:spPr>
            <a:xfrm>
              <a:off x="6648480" y="3760920"/>
              <a:ext cx="376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rot="5400000">
              <a:off x="6659280" y="2732040"/>
              <a:ext cx="141480" cy="191592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5920"/>
                <a:gd name="textAreaBottom" fmla="*/ 1906560 h 191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1763280" y="3619440"/>
            <a:ext cx="1916280" cy="561960"/>
            <a:chOff x="1763280" y="3619440"/>
            <a:chExt cx="1916280" cy="561960"/>
          </a:xfrm>
        </p:grpSpPr>
        <p:sp>
          <p:nvSpPr>
            <p:cNvPr id="816" name=""/>
            <p:cNvSpPr/>
            <p:nvPr/>
          </p:nvSpPr>
          <p:spPr>
            <a:xfrm>
              <a:off x="2517840" y="3760920"/>
              <a:ext cx="376200" cy="42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rot="5400000">
              <a:off x="2650680" y="2732040"/>
              <a:ext cx="141480" cy="1916280"/>
            </a:xfrm>
            <a:custGeom>
              <a:avLst/>
              <a:gdLst>
                <a:gd name="textAreaLeft" fmla="*/ 0 w 141480"/>
                <a:gd name="textAreaRight" fmla="*/ 99360 w 141480"/>
                <a:gd name="textAreaTop" fmla="*/ 9360 h 1916280"/>
                <a:gd name="textAreaBottom" fmla="*/ 1906920 h 19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108"/>
                    <a:pt x="21600" y="216"/>
                  </a:cubicBezTo>
                  <a:lnTo>
                    <a:pt x="21600" y="21384"/>
                  </a:lnTo>
                  <a:cubicBezTo>
                    <a:pt x="21600" y="21492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4521240" y="2637000"/>
            <a:ext cx="6271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523200" y="2637000"/>
            <a:ext cx="64116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476360" y="5051520"/>
            <a:ext cx="640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a) Create a pattern in which the 20th shape is a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) Create a pattern in which the 12th shape is a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) Create a pattern in which the 6th and 9th shapes are both      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018120" y="5396040"/>
            <a:ext cx="166680" cy="13788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5924520" y="5037120"/>
            <a:ext cx="335160" cy="276120"/>
          </a:xfrm>
          <a:prstGeom prst="hexagon">
            <a:avLst>
              <a:gd name="adj" fmla="val 30346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7048440" y="5654520"/>
            <a:ext cx="331920" cy="136800"/>
          </a:xfrm>
          <a:custGeom>
            <a:avLst/>
            <a:gdLst>
              <a:gd name="textAreaLeft" fmla="*/ 72720 w 331920"/>
              <a:gd name="textAreaRight" fmla="*/ 259200 w 331920"/>
              <a:gd name="textAreaTop" fmla="*/ 29880 h 136800"/>
              <a:gd name="textAreaBottom" fmla="*/ 106920 h 13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635280" y="422100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Your 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82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83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83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6" name=""/>
          <p:cNvSpPr txBox="1"/>
          <p:nvPr/>
        </p:nvSpPr>
        <p:spPr>
          <a:xfrm>
            <a:off x="1547640" y="692280"/>
            <a:ext cx="6193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7" name=""/>
          <p:cNvSpPr/>
          <p:nvPr/>
        </p:nvSpPr>
        <p:spPr>
          <a:xfrm>
            <a:off x="1116000" y="170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Increasing/Decreas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1908000" y="5789520"/>
            <a:ext cx="518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ritters That G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701880" y="3097080"/>
            <a:ext cx="379440" cy="282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778200" y="2565360"/>
            <a:ext cx="250920" cy="1355760"/>
            <a:chOff x="3778200" y="2565360"/>
            <a:chExt cx="250920" cy="1355760"/>
          </a:xfrm>
        </p:grpSpPr>
        <p:sp>
          <p:nvSpPr>
            <p:cNvPr id="841" name=""/>
            <p:cNvSpPr/>
            <p:nvPr/>
          </p:nvSpPr>
          <p:spPr>
            <a:xfrm>
              <a:off x="3787560" y="2565360"/>
              <a:ext cx="24156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78200" y="3381120"/>
              <a:ext cx="24120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3" name=""/>
          <p:cNvSpPr/>
          <p:nvPr/>
        </p:nvSpPr>
        <p:spPr>
          <a:xfrm>
            <a:off x="4062240" y="3097080"/>
            <a:ext cx="379440" cy="28260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4137120" y="2565360"/>
            <a:ext cx="250560" cy="1355760"/>
            <a:chOff x="4137120" y="2565360"/>
            <a:chExt cx="250560" cy="1355760"/>
          </a:xfrm>
        </p:grpSpPr>
        <p:sp>
          <p:nvSpPr>
            <p:cNvPr id="845" name=""/>
            <p:cNvSpPr/>
            <p:nvPr/>
          </p:nvSpPr>
          <p:spPr>
            <a:xfrm>
              <a:off x="4146480" y="2565360"/>
              <a:ext cx="24120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4137120" y="3381120"/>
              <a:ext cx="23940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5186520" y="2557440"/>
            <a:ext cx="379080" cy="1355760"/>
            <a:chOff x="5186520" y="2557440"/>
            <a:chExt cx="379080" cy="1355760"/>
          </a:xfrm>
        </p:grpSpPr>
        <p:sp>
          <p:nvSpPr>
            <p:cNvPr id="848" name=""/>
            <p:cNvSpPr/>
            <p:nvPr/>
          </p:nvSpPr>
          <p:spPr>
            <a:xfrm>
              <a:off x="5186520" y="3097440"/>
              <a:ext cx="379080" cy="282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256000" y="2557440"/>
              <a:ext cx="24084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256000" y="3373560"/>
              <a:ext cx="24084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4433760" y="2557440"/>
            <a:ext cx="379440" cy="1355760"/>
            <a:chOff x="4433760" y="2557440"/>
            <a:chExt cx="379440" cy="1355760"/>
          </a:xfrm>
        </p:grpSpPr>
        <p:sp>
          <p:nvSpPr>
            <p:cNvPr id="852" name=""/>
            <p:cNvSpPr/>
            <p:nvPr/>
          </p:nvSpPr>
          <p:spPr>
            <a:xfrm>
              <a:off x="4433760" y="3097440"/>
              <a:ext cx="379440" cy="282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503600" y="2557440"/>
              <a:ext cx="24120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93880" y="3373560"/>
              <a:ext cx="24156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4815000" y="2557440"/>
            <a:ext cx="379440" cy="1355760"/>
            <a:chOff x="4815000" y="2557440"/>
            <a:chExt cx="379440" cy="1355760"/>
          </a:xfrm>
        </p:grpSpPr>
        <p:sp>
          <p:nvSpPr>
            <p:cNvPr id="856" name=""/>
            <p:cNvSpPr/>
            <p:nvPr/>
          </p:nvSpPr>
          <p:spPr>
            <a:xfrm>
              <a:off x="4815000" y="3097440"/>
              <a:ext cx="379440" cy="2826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884840" y="2557440"/>
              <a:ext cx="241200" cy="54000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96000" y="3373560"/>
              <a:ext cx="239760" cy="539640"/>
            </a:xfrm>
            <a:prstGeom prst="diamond">
              <a:avLst/>
            </a:prstGeom>
            <a:solidFill>
              <a:srgbClr val="fad87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"/>
          <p:cNvGrpSpPr/>
          <p:nvPr/>
        </p:nvGrpSpPr>
        <p:grpSpPr>
          <a:xfrm>
            <a:off x="2124000" y="4221000"/>
            <a:ext cx="4753080" cy="1386720"/>
            <a:chOff x="2124000" y="4221000"/>
            <a:chExt cx="4753080" cy="1386720"/>
          </a:xfrm>
        </p:grpSpPr>
        <p:sp>
          <p:nvSpPr>
            <p:cNvPr id="860" name=""/>
            <p:cNvSpPr/>
            <p:nvPr/>
          </p:nvSpPr>
          <p:spPr>
            <a:xfrm>
              <a:off x="2124000" y="5300640"/>
              <a:ext cx="47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Frame 1     Frame 2          Frame 3                  Frame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1" name=""/>
            <p:cNvGrpSpPr/>
            <p:nvPr/>
          </p:nvGrpSpPr>
          <p:grpSpPr>
            <a:xfrm>
              <a:off x="2411280" y="4221000"/>
              <a:ext cx="4393800" cy="858960"/>
              <a:chOff x="2411280" y="4221000"/>
              <a:chExt cx="4393800" cy="858960"/>
            </a:xfrm>
          </p:grpSpPr>
          <p:grpSp>
            <p:nvGrpSpPr>
              <p:cNvPr id="862" name=""/>
              <p:cNvGrpSpPr/>
              <p:nvPr/>
            </p:nvGrpSpPr>
            <p:grpSpPr>
              <a:xfrm>
                <a:off x="2411280" y="4225680"/>
                <a:ext cx="316800" cy="854280"/>
                <a:chOff x="2411280" y="4225680"/>
                <a:chExt cx="316800" cy="854280"/>
              </a:xfrm>
            </p:grpSpPr>
            <p:sp>
              <p:nvSpPr>
                <p:cNvPr id="863" name=""/>
                <p:cNvSpPr/>
                <p:nvPr/>
              </p:nvSpPr>
              <p:spPr>
                <a:xfrm>
                  <a:off x="241128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246996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246132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3100680" y="4225680"/>
                <a:ext cx="633960" cy="854280"/>
                <a:chOff x="3100680" y="4225680"/>
                <a:chExt cx="633960" cy="85428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3100680" y="4565520"/>
                  <a:ext cx="31716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341784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315756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347652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314928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348480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3" name=""/>
              <p:cNvGrpSpPr/>
              <p:nvPr/>
            </p:nvGrpSpPr>
            <p:grpSpPr>
              <a:xfrm>
                <a:off x="4105800" y="4225680"/>
                <a:ext cx="945720" cy="854280"/>
                <a:chOff x="4105800" y="4225680"/>
                <a:chExt cx="945720" cy="854280"/>
              </a:xfrm>
            </p:grpSpPr>
            <p:sp>
              <p:nvSpPr>
                <p:cNvPr id="874" name=""/>
                <p:cNvSpPr/>
                <p:nvPr/>
              </p:nvSpPr>
              <p:spPr>
                <a:xfrm>
                  <a:off x="410580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4424400" y="4565520"/>
                  <a:ext cx="31716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473472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479340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479340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416448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4483080" y="42256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415584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449136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3" name=""/>
              <p:cNvGrpSpPr/>
              <p:nvPr/>
            </p:nvGrpSpPr>
            <p:grpSpPr>
              <a:xfrm>
                <a:off x="5532120" y="4221000"/>
                <a:ext cx="1272960" cy="858960"/>
                <a:chOff x="5532120" y="4221000"/>
                <a:chExt cx="1272960" cy="858960"/>
              </a:xfrm>
            </p:grpSpPr>
            <p:sp>
              <p:nvSpPr>
                <p:cNvPr id="884" name=""/>
                <p:cNvSpPr/>
                <p:nvPr/>
              </p:nvSpPr>
              <p:spPr>
                <a:xfrm>
                  <a:off x="553212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585072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616968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6488280" y="456552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"/>
                <p:cNvSpPr/>
                <p:nvPr/>
              </p:nvSpPr>
              <p:spPr>
                <a:xfrm>
                  <a:off x="6211440" y="422100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"/>
                <p:cNvSpPr/>
                <p:nvPr/>
              </p:nvSpPr>
              <p:spPr>
                <a:xfrm>
                  <a:off x="6211440" y="4735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582160" y="422100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901120" y="422100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573880" y="4735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909400" y="4735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6546960" y="422100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"/>
                <p:cNvSpPr/>
                <p:nvPr/>
              </p:nvSpPr>
              <p:spPr>
                <a:xfrm>
                  <a:off x="6546960" y="4740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96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77840" y="188640"/>
            <a:ext cx="8497800" cy="4103640"/>
            <a:chOff x="177840" y="188640"/>
            <a:chExt cx="8497800" cy="4103640"/>
          </a:xfrm>
        </p:grpSpPr>
        <p:sp>
          <p:nvSpPr>
            <p:cNvPr id="69" name=""/>
            <p:cNvSpPr/>
            <p:nvPr/>
          </p:nvSpPr>
          <p:spPr>
            <a:xfrm>
              <a:off x="538200" y="189000"/>
              <a:ext cx="0" cy="187164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95280" y="188640"/>
              <a:ext cx="0" cy="4103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7840" y="331920"/>
              <a:ext cx="8497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26920" y="954000"/>
            <a:ext cx="7632720" cy="50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y Teach Patterns and Pre-Algebr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Simple Patterns Are Every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Different Types of Patterns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umerical/Non-numer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Same Pattern Can Be Expressed in Different 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Different Types of Pattern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peating and Increasing/Decrea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attern Rules Generalize Relationsh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Your Ques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0000"/>
                </a:solidFill>
                <a:uFillTx/>
                <a:latin typeface="Arial"/>
              </a:rPr>
              <a:t>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quations Express Relationships Between Nu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7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600" spc="-1" strike="noStrike">
                <a:solidFill>
                  <a:srgbClr val="000000"/>
                </a:solidFill>
                <a:latin typeface="Arial"/>
              </a:rPr>
              <a:t>Your Questions and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826920" y="6093000"/>
            <a:ext cx="7418160" cy="288720"/>
            <a:chOff x="826920" y="6093000"/>
            <a:chExt cx="7418160" cy="288720"/>
          </a:xfrm>
        </p:grpSpPr>
        <p:grpSp>
          <p:nvGrpSpPr>
            <p:cNvPr id="74" name=""/>
            <p:cNvGrpSpPr/>
            <p:nvPr/>
          </p:nvGrpSpPr>
          <p:grpSpPr>
            <a:xfrm>
              <a:off x="5311440" y="6093000"/>
              <a:ext cx="2933640" cy="288720"/>
              <a:chOff x="5311440" y="6093000"/>
              <a:chExt cx="2933640" cy="28872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5311440" y="6093000"/>
                <a:ext cx="1423080" cy="288720"/>
                <a:chOff x="5311440" y="6093000"/>
                <a:chExt cx="1423080" cy="28872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31144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684400" y="6093000"/>
                  <a:ext cx="304920" cy="28872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6056640" y="6093000"/>
                  <a:ext cx="304920" cy="288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642960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822000" y="6093000"/>
                <a:ext cx="1423080" cy="288720"/>
                <a:chOff x="6822000" y="6093000"/>
                <a:chExt cx="1423080" cy="28872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82200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194960" y="6093000"/>
                  <a:ext cx="304920" cy="28872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7567200" y="6093000"/>
                  <a:ext cx="304920" cy="288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794016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5" name=""/>
            <p:cNvGrpSpPr/>
            <p:nvPr/>
          </p:nvGrpSpPr>
          <p:grpSpPr>
            <a:xfrm>
              <a:off x="2314440" y="6093000"/>
              <a:ext cx="2933640" cy="288720"/>
              <a:chOff x="2314440" y="6093000"/>
              <a:chExt cx="2933640" cy="288720"/>
            </a:xfrm>
          </p:grpSpPr>
          <p:grpSp>
            <p:nvGrpSpPr>
              <p:cNvPr id="86" name=""/>
              <p:cNvGrpSpPr/>
              <p:nvPr/>
            </p:nvGrpSpPr>
            <p:grpSpPr>
              <a:xfrm>
                <a:off x="2314440" y="6093000"/>
                <a:ext cx="1423080" cy="288720"/>
                <a:chOff x="2314440" y="6093000"/>
                <a:chExt cx="1423080" cy="288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31444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87400" y="6093000"/>
                  <a:ext cx="304920" cy="28872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3059640" y="6093000"/>
                  <a:ext cx="304920" cy="288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343260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3825000" y="6093000"/>
                <a:ext cx="1423080" cy="288720"/>
                <a:chOff x="3825000" y="6093000"/>
                <a:chExt cx="1423080" cy="288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382500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197960" y="6093000"/>
                  <a:ext cx="304920" cy="28872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570200" y="6093000"/>
                  <a:ext cx="304920" cy="2887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943160" y="6093000"/>
                  <a:ext cx="304920" cy="2887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" name=""/>
            <p:cNvGrpSpPr/>
            <p:nvPr/>
          </p:nvGrpSpPr>
          <p:grpSpPr>
            <a:xfrm>
              <a:off x="826920" y="6093000"/>
              <a:ext cx="1422000" cy="288720"/>
              <a:chOff x="826920" y="6093000"/>
              <a:chExt cx="1422000" cy="288720"/>
            </a:xfrm>
          </p:grpSpPr>
          <p:sp>
            <p:nvSpPr>
              <p:cNvPr id="97" name=""/>
              <p:cNvSpPr/>
              <p:nvPr/>
            </p:nvSpPr>
            <p:spPr>
              <a:xfrm>
                <a:off x="826920" y="6093000"/>
                <a:ext cx="304560" cy="28872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199520" y="6093000"/>
                <a:ext cx="304560" cy="288720"/>
              </a:xfrm>
              <a:prstGeom prst="rect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571760" y="6093000"/>
                <a:ext cx="304560" cy="2887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944360" y="6093000"/>
                <a:ext cx="304560" cy="288720"/>
              </a:xfrm>
              <a:prstGeom prst="triangle">
                <a:avLst>
                  <a:gd name="adj" fmla="val 50000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3924360" y="54936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674200" y="630864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900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901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4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905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7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8" name=""/>
          <p:cNvSpPr/>
          <p:nvPr/>
        </p:nvSpPr>
        <p:spPr>
          <a:xfrm>
            <a:off x="1187280" y="1628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Increasing/Decreas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2340000" y="3484440"/>
            <a:ext cx="4753080" cy="1386720"/>
            <a:chOff x="2340000" y="3484440"/>
            <a:chExt cx="4753080" cy="1386720"/>
          </a:xfrm>
        </p:grpSpPr>
        <p:sp>
          <p:nvSpPr>
            <p:cNvPr id="910" name=""/>
            <p:cNvSpPr/>
            <p:nvPr/>
          </p:nvSpPr>
          <p:spPr>
            <a:xfrm>
              <a:off x="2340000" y="4564080"/>
              <a:ext cx="47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400" spc="-1" strike="noStrike">
                  <a:solidFill>
                    <a:srgbClr val="000000"/>
                  </a:solidFill>
                  <a:latin typeface="Arial"/>
                </a:rPr>
                <a:t>Frame 1     Frame 2          Frame 3                  Frame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2627280" y="3484440"/>
              <a:ext cx="4393800" cy="858960"/>
              <a:chOff x="2627280" y="3484440"/>
              <a:chExt cx="4393800" cy="858960"/>
            </a:xfrm>
          </p:grpSpPr>
          <p:grpSp>
            <p:nvGrpSpPr>
              <p:cNvPr id="912" name=""/>
              <p:cNvGrpSpPr/>
              <p:nvPr/>
            </p:nvGrpSpPr>
            <p:grpSpPr>
              <a:xfrm>
                <a:off x="2627280" y="3489120"/>
                <a:ext cx="316800" cy="854280"/>
                <a:chOff x="2627280" y="3489120"/>
                <a:chExt cx="316800" cy="854280"/>
              </a:xfrm>
            </p:grpSpPr>
            <p:sp>
              <p:nvSpPr>
                <p:cNvPr id="913" name=""/>
                <p:cNvSpPr/>
                <p:nvPr/>
              </p:nvSpPr>
              <p:spPr>
                <a:xfrm>
                  <a:off x="262728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268596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267732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3316680" y="3489120"/>
                <a:ext cx="633960" cy="854280"/>
                <a:chOff x="3316680" y="3489120"/>
                <a:chExt cx="633960" cy="85428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3316680" y="3828960"/>
                  <a:ext cx="31716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363384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337356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369252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336528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370080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"/>
              <p:cNvGrpSpPr/>
              <p:nvPr/>
            </p:nvGrpSpPr>
            <p:grpSpPr>
              <a:xfrm>
                <a:off x="4321800" y="3489120"/>
                <a:ext cx="945720" cy="854280"/>
                <a:chOff x="4321800" y="3489120"/>
                <a:chExt cx="945720" cy="85428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432180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4640400" y="3828960"/>
                  <a:ext cx="31716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495072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500940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00940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438048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4699080" y="348912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437184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470736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3" name=""/>
              <p:cNvGrpSpPr/>
              <p:nvPr/>
            </p:nvGrpSpPr>
            <p:grpSpPr>
              <a:xfrm>
                <a:off x="5748120" y="3484440"/>
                <a:ext cx="1272960" cy="858960"/>
                <a:chOff x="5748120" y="3484440"/>
                <a:chExt cx="1272960" cy="858960"/>
              </a:xfrm>
            </p:grpSpPr>
            <p:sp>
              <p:nvSpPr>
                <p:cNvPr id="934" name=""/>
                <p:cNvSpPr/>
                <p:nvPr/>
              </p:nvSpPr>
              <p:spPr>
                <a:xfrm>
                  <a:off x="574812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606672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638568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6704280" y="3828960"/>
                  <a:ext cx="316800" cy="17820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"/>
                <p:cNvSpPr/>
                <p:nvPr/>
              </p:nvSpPr>
              <p:spPr>
                <a:xfrm>
                  <a:off x="6427440" y="3484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"/>
                <p:cNvSpPr/>
                <p:nvPr/>
              </p:nvSpPr>
              <p:spPr>
                <a:xfrm>
                  <a:off x="6427440" y="39988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5798160" y="3484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6117120" y="3484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5789880" y="39988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6125400" y="399888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6762960" y="348444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"/>
                <p:cNvSpPr/>
                <p:nvPr/>
              </p:nvSpPr>
              <p:spPr>
                <a:xfrm>
                  <a:off x="6762960" y="4003560"/>
                  <a:ext cx="201240" cy="3398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946" name=""/>
          <p:cNvGraphicFramePr/>
          <p:nvPr/>
        </p:nvGraphicFramePr>
        <p:xfrm>
          <a:off x="1547640" y="2614680"/>
          <a:ext cx="6120000" cy="669960"/>
        </p:xfrm>
        <a:graphic>
          <a:graphicData uri="http://schemas.openxmlformats.org/drawingml/2006/table">
            <a:tbl>
              <a:tblPr/>
              <a:tblGrid>
                <a:gridCol w="1368720"/>
                <a:gridCol w="934920"/>
                <a:gridCol w="961920"/>
                <a:gridCol w="982800"/>
                <a:gridCol w="936720"/>
                <a:gridCol w="934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7" name=""/>
          <p:cNvSpPr/>
          <p:nvPr/>
        </p:nvSpPr>
        <p:spPr>
          <a:xfrm>
            <a:off x="1258920" y="5157720"/>
            <a:ext cx="32418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Add 2 legs each time, skip count by 2 (recursive), legs go up by twos, bodies go up by 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4932360" y="5141880"/>
            <a:ext cx="309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imes New Roman"/>
              </a:rPr>
              <a:t>Look at relationships across categories (function), double the body par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2916360" y="2421000"/>
            <a:ext cx="482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7956720" y="2565360"/>
            <a:ext cx="0" cy="71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30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4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955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956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9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960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62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3" name=""/>
          <p:cNvSpPr/>
          <p:nvPr/>
        </p:nvSpPr>
        <p:spPr>
          <a:xfrm>
            <a:off x="826920" y="1628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Developing relation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1116000" y="2565360"/>
            <a:ext cx="7201080" cy="37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uild and extend to the next fr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many legs would the critter have the next yea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Keep extending the pattern, frame by fr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next year after t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Identify a pattern (often a skip-counting patter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hat do you noti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ush students to generaliz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many legs will the critter have in 10 years? In 100 year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can you find the number of legs at any 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96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97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97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7" name=""/>
          <p:cNvSpPr/>
          <p:nvPr/>
        </p:nvSpPr>
        <p:spPr>
          <a:xfrm>
            <a:off x="1187280" y="1628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Increasing/Decreas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2556000" y="2637000"/>
            <a:ext cx="4176720" cy="1007640"/>
            <a:chOff x="2556000" y="2637000"/>
            <a:chExt cx="4176720" cy="1007640"/>
          </a:xfrm>
        </p:grpSpPr>
        <p:grpSp>
          <p:nvGrpSpPr>
            <p:cNvPr id="979" name=""/>
            <p:cNvGrpSpPr/>
            <p:nvPr/>
          </p:nvGrpSpPr>
          <p:grpSpPr>
            <a:xfrm>
              <a:off x="2556000" y="2642760"/>
              <a:ext cx="495000" cy="1001880"/>
              <a:chOff x="2556000" y="2642760"/>
              <a:chExt cx="495000" cy="1001880"/>
            </a:xfrm>
          </p:grpSpPr>
          <p:grpSp>
            <p:nvGrpSpPr>
              <p:cNvPr id="980" name=""/>
              <p:cNvGrpSpPr/>
              <p:nvPr/>
            </p:nvGrpSpPr>
            <p:grpSpPr>
              <a:xfrm>
                <a:off x="2819520" y="2642760"/>
                <a:ext cx="231480" cy="1001880"/>
                <a:chOff x="2819520" y="2642760"/>
                <a:chExt cx="231480" cy="100188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281952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286236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285624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 rot="16200000">
                <a:off x="2564280" y="302256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3210120" y="2642760"/>
              <a:ext cx="725760" cy="1001880"/>
              <a:chOff x="3210120" y="2642760"/>
              <a:chExt cx="725760" cy="1001880"/>
            </a:xfrm>
          </p:grpSpPr>
          <p:grpSp>
            <p:nvGrpSpPr>
              <p:cNvPr id="986" name=""/>
              <p:cNvGrpSpPr/>
              <p:nvPr/>
            </p:nvGrpSpPr>
            <p:grpSpPr>
              <a:xfrm>
                <a:off x="3472920" y="2642760"/>
                <a:ext cx="462960" cy="1001880"/>
                <a:chOff x="3472920" y="2642760"/>
                <a:chExt cx="462960" cy="100188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347292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370440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351432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374724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350820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375336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93" name=""/>
              <p:cNvSpPr/>
              <p:nvPr/>
            </p:nvSpPr>
            <p:spPr>
              <a:xfrm rot="16200000">
                <a:off x="3218400" y="3017160"/>
                <a:ext cx="245160" cy="26208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4171320" y="2642760"/>
              <a:ext cx="953640" cy="1001880"/>
              <a:chOff x="4171320" y="2642760"/>
              <a:chExt cx="953640" cy="1001880"/>
            </a:xfrm>
          </p:grpSpPr>
          <p:grpSp>
            <p:nvGrpSpPr>
              <p:cNvPr id="995" name=""/>
              <p:cNvGrpSpPr/>
              <p:nvPr/>
            </p:nvGrpSpPr>
            <p:grpSpPr>
              <a:xfrm>
                <a:off x="4434120" y="2642760"/>
                <a:ext cx="690840" cy="1001880"/>
                <a:chOff x="4434120" y="2642760"/>
                <a:chExt cx="690840" cy="1001880"/>
              </a:xfrm>
            </p:grpSpPr>
            <p:sp>
              <p:nvSpPr>
                <p:cNvPr id="996" name=""/>
                <p:cNvSpPr/>
                <p:nvPr/>
              </p:nvSpPr>
              <p:spPr>
                <a:xfrm>
                  <a:off x="443412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466668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4893480" y="304128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493632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493632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447696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4709520" y="2642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447084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4715640" y="324612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5" name=""/>
              <p:cNvSpPr/>
              <p:nvPr/>
            </p:nvSpPr>
            <p:spPr>
              <a:xfrm rot="16200000">
                <a:off x="4179600" y="300996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5550120" y="2637000"/>
              <a:ext cx="1182600" cy="1007640"/>
              <a:chOff x="5550120" y="2637000"/>
              <a:chExt cx="1182600" cy="1007640"/>
            </a:xfrm>
          </p:grpSpPr>
          <p:sp>
            <p:nvSpPr>
              <p:cNvPr id="1007" name=""/>
              <p:cNvSpPr/>
              <p:nvPr/>
            </p:nvSpPr>
            <p:spPr>
              <a:xfrm>
                <a:off x="5810760" y="304128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035400" y="304128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268680" y="304128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501240" y="304128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6298920" y="2637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6298920" y="324036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39560" y="2637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072480" y="2637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33080" y="3240360"/>
                <a:ext cx="14724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6078240" y="3240360"/>
                <a:ext cx="14724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544080" y="2637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6544080" y="324612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rot="16200000">
                <a:off x="5558400" y="301788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020" name=""/>
          <p:cNvGraphicFramePr/>
          <p:nvPr/>
        </p:nvGraphicFramePr>
        <p:xfrm>
          <a:off x="1403280" y="4076640"/>
          <a:ext cx="6615000" cy="669960"/>
        </p:xfrm>
        <a:graphic>
          <a:graphicData uri="http://schemas.openxmlformats.org/drawingml/2006/table">
            <a:tbl>
              <a:tblPr/>
              <a:tblGrid>
                <a:gridCol w="1892160"/>
                <a:gridCol w="674640"/>
                <a:gridCol w="674640"/>
                <a:gridCol w="675000"/>
                <a:gridCol w="674640"/>
                <a:gridCol w="674640"/>
                <a:gridCol w="674640"/>
                <a:gridCol w="674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s and he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1" name=""/>
          <p:cNvSpPr/>
          <p:nvPr/>
        </p:nvSpPr>
        <p:spPr>
          <a:xfrm>
            <a:off x="3564000" y="5084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at’s the re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3854880" y="558972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Doubles plu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027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028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1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032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4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repeating or increasing/decreasing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5" name=""/>
          <p:cNvSpPr/>
          <p:nvPr/>
        </p:nvSpPr>
        <p:spPr>
          <a:xfrm>
            <a:off x="1187280" y="155736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Increasing/Decreasing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1243080" y="2492280"/>
            <a:ext cx="457200" cy="685800"/>
            <a:chOff x="1243080" y="2492280"/>
            <a:chExt cx="457200" cy="685800"/>
          </a:xfrm>
        </p:grpSpPr>
        <p:sp>
          <p:nvSpPr>
            <p:cNvPr id="1037" name=""/>
            <p:cNvSpPr/>
            <p:nvPr/>
          </p:nvSpPr>
          <p:spPr>
            <a:xfrm>
              <a:off x="1357200" y="24922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1243080" y="2720880"/>
              <a:ext cx="457200" cy="2282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355400" y="29476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2043000" y="2492280"/>
            <a:ext cx="457200" cy="1144800"/>
            <a:chOff x="2043000" y="2492280"/>
            <a:chExt cx="457200" cy="1144800"/>
          </a:xfrm>
        </p:grpSpPr>
        <p:sp>
          <p:nvSpPr>
            <p:cNvPr id="1041" name=""/>
            <p:cNvSpPr/>
            <p:nvPr/>
          </p:nvSpPr>
          <p:spPr>
            <a:xfrm>
              <a:off x="2157120" y="24922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V="1">
              <a:off x="2043000" y="2720880"/>
              <a:ext cx="457200" cy="2282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V="1">
              <a:off x="2043000" y="2948760"/>
              <a:ext cx="457200" cy="2286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157120" y="34066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157120" y="31780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2843280" y="2492280"/>
            <a:ext cx="457200" cy="1602000"/>
            <a:chOff x="2843280" y="2492280"/>
            <a:chExt cx="457200" cy="1602000"/>
          </a:xfrm>
        </p:grpSpPr>
        <p:sp>
          <p:nvSpPr>
            <p:cNvPr id="1047" name=""/>
            <p:cNvSpPr/>
            <p:nvPr/>
          </p:nvSpPr>
          <p:spPr>
            <a:xfrm>
              <a:off x="2957400" y="249228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V="1">
              <a:off x="2843280" y="2720880"/>
              <a:ext cx="457200" cy="2282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 flipV="1">
              <a:off x="2843280" y="2948760"/>
              <a:ext cx="457200" cy="22860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600"/>
                <a:gd name="textAreaBottom" fmla="*/ 1785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57400" y="36352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57400" y="34066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57400" y="3863880"/>
              <a:ext cx="230400" cy="230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V="1">
              <a:off x="2843280" y="3178080"/>
              <a:ext cx="457200" cy="228240"/>
            </a:xfrm>
            <a:custGeom>
              <a:avLst/>
              <a:gdLst>
                <a:gd name="textAreaLeft" fmla="*/ 100440 w 457200"/>
                <a:gd name="textAreaRight" fmla="*/ 356760 w 457200"/>
                <a:gd name="textAreaTop" fmla="*/ 50040 h 228240"/>
                <a:gd name="textAreaBottom" fmla="*/ 178200 h 228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2267640" y="5229360"/>
            <a:ext cx="4763160" cy="231480"/>
            <a:chOff x="2267640" y="5229360"/>
            <a:chExt cx="4763160" cy="231480"/>
          </a:xfrm>
        </p:grpSpPr>
        <p:sp>
          <p:nvSpPr>
            <p:cNvPr id="1055" name=""/>
            <p:cNvSpPr/>
            <p:nvPr/>
          </p:nvSpPr>
          <p:spPr>
            <a:xfrm rot="5400000">
              <a:off x="272052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002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rot="16200000">
              <a:off x="226764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3732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H="1" rot="16200000">
              <a:off x="3141360" y="5230800"/>
              <a:ext cx="227880" cy="22824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6018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 rot="5400000">
              <a:off x="383040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51656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rot="16200000">
              <a:off x="428364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47448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97160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 rot="5400000">
              <a:off x="5202360" y="5230800"/>
              <a:ext cx="22788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888160" y="52293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 rot="16200000">
              <a:off x="5655600" y="5228640"/>
              <a:ext cx="227520" cy="22860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116760" y="52293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343560" y="52293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573960" y="5231160"/>
              <a:ext cx="230400" cy="2296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 rot="5400000">
              <a:off x="6802560" y="5230800"/>
              <a:ext cx="227880" cy="228240"/>
            </a:xfrm>
            <a:prstGeom prst="triangle">
              <a:avLst>
                <a:gd name="adj" fmla="val 5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859280" y="2714760"/>
            <a:ext cx="3200040" cy="336240"/>
            <a:chOff x="4859280" y="2714760"/>
            <a:chExt cx="3200040" cy="336240"/>
          </a:xfrm>
        </p:grpSpPr>
        <p:grpSp>
          <p:nvGrpSpPr>
            <p:cNvPr id="1074" name=""/>
            <p:cNvGrpSpPr/>
            <p:nvPr/>
          </p:nvGrpSpPr>
          <p:grpSpPr>
            <a:xfrm>
              <a:off x="4859280" y="2714760"/>
              <a:ext cx="228600" cy="336240"/>
              <a:chOff x="4859280" y="2714760"/>
              <a:chExt cx="228600" cy="336240"/>
            </a:xfrm>
          </p:grpSpPr>
          <p:sp>
            <p:nvSpPr>
              <p:cNvPr id="1075" name=""/>
              <p:cNvSpPr/>
              <p:nvPr/>
            </p:nvSpPr>
            <p:spPr>
              <a:xfrm>
                <a:off x="4859280" y="2822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 flipV="1">
                <a:off x="4994640" y="2714760"/>
                <a:ext cx="5364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 flipV="1">
                <a:off x="4882680" y="2718360"/>
                <a:ext cx="5364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907520" y="2888640"/>
                <a:ext cx="4320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002200" y="2892240"/>
                <a:ext cx="4320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0" name=""/>
            <p:cNvSpPr/>
            <p:nvPr/>
          </p:nvSpPr>
          <p:spPr>
            <a:xfrm>
              <a:off x="50878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316480" y="2822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5773680" y="2714760"/>
              <a:ext cx="228600" cy="336240"/>
              <a:chOff x="5773680" y="2714760"/>
              <a:chExt cx="228600" cy="336240"/>
            </a:xfrm>
          </p:grpSpPr>
          <p:sp>
            <p:nvSpPr>
              <p:cNvPr id="1083" name=""/>
              <p:cNvSpPr/>
              <p:nvPr/>
            </p:nvSpPr>
            <p:spPr>
              <a:xfrm>
                <a:off x="5773680" y="28224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5909040" y="2714760"/>
                <a:ext cx="5364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 flipV="1">
                <a:off x="5797080" y="2718360"/>
                <a:ext cx="53640" cy="10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21920" y="2888640"/>
                <a:ext cx="4320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916600" y="2892240"/>
                <a:ext cx="4320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60022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230880" y="2822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4594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1" name=""/>
            <p:cNvGrpSpPr/>
            <p:nvPr/>
          </p:nvGrpSpPr>
          <p:grpSpPr>
            <a:xfrm>
              <a:off x="6916680" y="2714760"/>
              <a:ext cx="228240" cy="336240"/>
              <a:chOff x="6916680" y="2714760"/>
              <a:chExt cx="228240" cy="336240"/>
            </a:xfrm>
          </p:grpSpPr>
          <p:sp>
            <p:nvSpPr>
              <p:cNvPr id="1092" name=""/>
              <p:cNvSpPr/>
              <p:nvPr/>
            </p:nvSpPr>
            <p:spPr>
              <a:xfrm>
                <a:off x="6916680" y="282240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7052040" y="2714760"/>
                <a:ext cx="532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 flipV="1">
                <a:off x="6940440" y="2718360"/>
                <a:ext cx="53280" cy="10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964560" y="288864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059240" y="2892240"/>
                <a:ext cx="42840" cy="42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97" name=""/>
            <p:cNvSpPr/>
            <p:nvPr/>
          </p:nvSpPr>
          <p:spPr>
            <a:xfrm>
              <a:off x="7145280" y="2822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3738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602480" y="2822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7831080" y="2822400"/>
              <a:ext cx="228240" cy="228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1" name=""/>
          <p:cNvGrpSpPr/>
          <p:nvPr/>
        </p:nvGrpSpPr>
        <p:grpSpPr>
          <a:xfrm>
            <a:off x="4356000" y="3500280"/>
            <a:ext cx="3390840" cy="1041480"/>
            <a:chOff x="4356000" y="3500280"/>
            <a:chExt cx="3390840" cy="1041480"/>
          </a:xfrm>
        </p:grpSpPr>
        <p:pic>
          <p:nvPicPr>
            <p:cNvPr id="1102" name="" descr=""/>
            <p:cNvPicPr/>
            <p:nvPr/>
          </p:nvPicPr>
          <p:blipFill>
            <a:blip r:embed="rId1"/>
            <a:stretch/>
          </p:blipFill>
          <p:spPr>
            <a:xfrm>
              <a:off x="4356000" y="3500280"/>
              <a:ext cx="799920" cy="7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3" name="" descr=""/>
            <p:cNvPicPr/>
            <p:nvPr/>
          </p:nvPicPr>
          <p:blipFill>
            <a:blip r:embed="rId2"/>
            <a:stretch/>
          </p:blipFill>
          <p:spPr>
            <a:xfrm>
              <a:off x="5384520" y="3500280"/>
              <a:ext cx="799920" cy="7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4" name="" descr=""/>
            <p:cNvPicPr/>
            <p:nvPr/>
          </p:nvPicPr>
          <p:blipFill>
            <a:blip r:embed="rId3"/>
            <a:stretch/>
          </p:blipFill>
          <p:spPr>
            <a:xfrm>
              <a:off x="6642000" y="3500280"/>
              <a:ext cx="799920" cy="73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5" name="" descr=""/>
            <p:cNvPicPr/>
            <p:nvPr/>
          </p:nvPicPr>
          <p:blipFill>
            <a:blip r:embed="rId4"/>
            <a:stretch/>
          </p:blipFill>
          <p:spPr>
            <a:xfrm>
              <a:off x="5536800" y="3652560"/>
              <a:ext cx="7999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" descr=""/>
            <p:cNvPicPr/>
            <p:nvPr/>
          </p:nvPicPr>
          <p:blipFill>
            <a:blip r:embed="rId5"/>
            <a:stretch/>
          </p:blipFill>
          <p:spPr>
            <a:xfrm>
              <a:off x="6794280" y="3652560"/>
              <a:ext cx="799920" cy="73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7" name="" descr=""/>
            <p:cNvPicPr/>
            <p:nvPr/>
          </p:nvPicPr>
          <p:blipFill>
            <a:blip r:embed="rId6"/>
            <a:stretch/>
          </p:blipFill>
          <p:spPr>
            <a:xfrm>
              <a:off x="6946920" y="3804840"/>
              <a:ext cx="799920" cy="73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8" name=""/>
          <p:cNvGrpSpPr/>
          <p:nvPr/>
        </p:nvGrpSpPr>
        <p:grpSpPr>
          <a:xfrm>
            <a:off x="789480" y="4508640"/>
            <a:ext cx="4274280" cy="350280"/>
            <a:chOff x="789480" y="4508640"/>
            <a:chExt cx="4274280" cy="350280"/>
          </a:xfrm>
        </p:grpSpPr>
        <p:sp>
          <p:nvSpPr>
            <p:cNvPr id="1109" name=""/>
            <p:cNvSpPr/>
            <p:nvPr/>
          </p:nvSpPr>
          <p:spPr>
            <a:xfrm>
              <a:off x="4492800" y="4508640"/>
              <a:ext cx="342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0" name=""/>
            <p:cNvGrpSpPr/>
            <p:nvPr/>
          </p:nvGrpSpPr>
          <p:grpSpPr>
            <a:xfrm>
              <a:off x="789480" y="4515840"/>
              <a:ext cx="4274280" cy="343080"/>
              <a:chOff x="789480" y="4515840"/>
              <a:chExt cx="4274280" cy="343080"/>
            </a:xfrm>
          </p:grpSpPr>
          <p:grpSp>
            <p:nvGrpSpPr>
              <p:cNvPr id="1111" name=""/>
              <p:cNvGrpSpPr/>
              <p:nvPr/>
            </p:nvGrpSpPr>
            <p:grpSpPr>
              <a:xfrm>
                <a:off x="789480" y="4515840"/>
                <a:ext cx="772560" cy="343080"/>
                <a:chOff x="789480" y="4515840"/>
                <a:chExt cx="772560" cy="343080"/>
              </a:xfrm>
            </p:grpSpPr>
            <p:sp>
              <p:nvSpPr>
                <p:cNvPr id="1112" name=""/>
                <p:cNvSpPr/>
                <p:nvPr/>
              </p:nvSpPr>
              <p:spPr>
                <a:xfrm>
                  <a:off x="82692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984240" y="4535640"/>
                  <a:ext cx="15948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78948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121932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137628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 flipV="1">
                  <a:off x="118188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99036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"/>
              <p:cNvGrpSpPr/>
              <p:nvPr/>
            </p:nvGrpSpPr>
            <p:grpSpPr>
              <a:xfrm>
                <a:off x="1932120" y="4515840"/>
                <a:ext cx="1188720" cy="343080"/>
                <a:chOff x="1932120" y="4515840"/>
                <a:chExt cx="1188720" cy="34308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96956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212652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 flipV="1">
                  <a:off x="193212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36196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251892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 flipV="1">
                  <a:off x="2324520" y="4539240"/>
                  <a:ext cx="17460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13336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 flipV="1">
                  <a:off x="272412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253260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77812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2935440" y="4535640"/>
                  <a:ext cx="15948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3459240" y="4515840"/>
                <a:ext cx="1188720" cy="343080"/>
                <a:chOff x="3459240" y="4515840"/>
                <a:chExt cx="1188720" cy="34308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349668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365364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 flipV="1">
                  <a:off x="345924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388908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046040" y="4535640"/>
                  <a:ext cx="15984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 flipV="1">
                  <a:off x="3851640" y="4539240"/>
                  <a:ext cx="17460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366048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 flipV="1">
                  <a:off x="4251240" y="4539240"/>
                  <a:ext cx="174240" cy="295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059720" y="451584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305240" y="4858920"/>
                  <a:ext cx="342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62560" y="4535640"/>
                  <a:ext cx="159480" cy="3034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3" name=""/>
              <p:cNvSpPr/>
              <p:nvPr/>
            </p:nvSpPr>
            <p:spPr>
              <a:xfrm flipV="1">
                <a:off x="4675680" y="4539240"/>
                <a:ext cx="174240" cy="29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4721040" y="4858920"/>
                <a:ext cx="3427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4878720" y="4535640"/>
                <a:ext cx="159480" cy="303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46" name=""/>
          <p:cNvSpPr/>
          <p:nvPr/>
        </p:nvSpPr>
        <p:spPr>
          <a:xfrm>
            <a:off x="611280" y="5950080"/>
            <a:ext cx="6696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Caterpillars, Worms and Pattern Block Trees are adapted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Lessons for Algebraic Thinking: Grades K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pp. 2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–11, 89–98, 157–170, by Leyani von Rotz and Marilyn Burns. Copyright © 2002 by Math Solutions Public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14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15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15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56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57" name=""/>
          <p:cNvSpPr/>
          <p:nvPr/>
        </p:nvSpPr>
        <p:spPr>
          <a:xfrm>
            <a:off x="2195640" y="292428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ttern rules reveal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mathematical relationshi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1979640" y="19162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attern rules describ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how a pattern grow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nd can be used to make logical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prediction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1258920" y="436572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3276720" y="5229360"/>
            <a:ext cx="280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hat chang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hat stays the sa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1" name=""/>
          <p:cNvGrpSpPr/>
          <p:nvPr/>
        </p:nvGrpSpPr>
        <p:grpSpPr>
          <a:xfrm>
            <a:off x="1835280" y="3645000"/>
            <a:ext cx="5255640" cy="1296360"/>
            <a:chOff x="1835280" y="3645000"/>
            <a:chExt cx="5255640" cy="1296360"/>
          </a:xfrm>
        </p:grpSpPr>
        <p:grpSp>
          <p:nvGrpSpPr>
            <p:cNvPr id="1162" name=""/>
            <p:cNvGrpSpPr/>
            <p:nvPr/>
          </p:nvGrpSpPr>
          <p:grpSpPr>
            <a:xfrm>
              <a:off x="1835280" y="3652560"/>
              <a:ext cx="622800" cy="1288800"/>
              <a:chOff x="1835280" y="3652560"/>
              <a:chExt cx="622800" cy="1288800"/>
            </a:xfrm>
          </p:grpSpPr>
          <p:grpSp>
            <p:nvGrpSpPr>
              <p:cNvPr id="1163" name=""/>
              <p:cNvGrpSpPr/>
              <p:nvPr/>
            </p:nvGrpSpPr>
            <p:grpSpPr>
              <a:xfrm>
                <a:off x="2166840" y="3652560"/>
                <a:ext cx="291240" cy="1288800"/>
                <a:chOff x="2166840" y="3652560"/>
                <a:chExt cx="291240" cy="1288800"/>
              </a:xfrm>
            </p:grpSpPr>
            <p:sp>
              <p:nvSpPr>
                <p:cNvPr id="1164" name=""/>
                <p:cNvSpPr/>
                <p:nvPr/>
              </p:nvSpPr>
              <p:spPr>
                <a:xfrm>
                  <a:off x="216684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20480" y="365256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2212920" y="442872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7" name=""/>
              <p:cNvSpPr/>
              <p:nvPr/>
            </p:nvSpPr>
            <p:spPr>
              <a:xfrm rot="16200000">
                <a:off x="1842120" y="4145040"/>
                <a:ext cx="315720" cy="32940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2658600" y="3652560"/>
              <a:ext cx="913680" cy="1288800"/>
              <a:chOff x="2658600" y="3652560"/>
              <a:chExt cx="913680" cy="1288800"/>
            </a:xfrm>
          </p:grpSpPr>
          <p:grpSp>
            <p:nvGrpSpPr>
              <p:cNvPr id="1169" name=""/>
              <p:cNvGrpSpPr/>
              <p:nvPr/>
            </p:nvGrpSpPr>
            <p:grpSpPr>
              <a:xfrm>
                <a:off x="2989440" y="3652560"/>
                <a:ext cx="582840" cy="1288800"/>
                <a:chOff x="2989440" y="3652560"/>
                <a:chExt cx="582840" cy="128880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298944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28104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3041640" y="365256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3334680" y="365256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034080" y="442872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3342600" y="442872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 rot="16200000">
                <a:off x="2665440" y="4138560"/>
                <a:ext cx="315360" cy="32940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"/>
            <p:cNvGrpSpPr/>
            <p:nvPr/>
          </p:nvGrpSpPr>
          <p:grpSpPr>
            <a:xfrm>
              <a:off x="3867840" y="3652560"/>
              <a:ext cx="1200240" cy="1288800"/>
              <a:chOff x="3867840" y="3652560"/>
              <a:chExt cx="1200240" cy="1288800"/>
            </a:xfrm>
          </p:grpSpPr>
          <p:grpSp>
            <p:nvGrpSpPr>
              <p:cNvPr id="1178" name=""/>
              <p:cNvGrpSpPr/>
              <p:nvPr/>
            </p:nvGrpSpPr>
            <p:grpSpPr>
              <a:xfrm>
                <a:off x="4198680" y="3652560"/>
                <a:ext cx="869400" cy="1288800"/>
                <a:chOff x="4198680" y="3652560"/>
                <a:chExt cx="869400" cy="128880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419868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49136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776840" y="4165200"/>
                  <a:ext cx="291240" cy="26892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4830840" y="365256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4830840" y="442872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4252320" y="365256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4545360" y="365256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4244760" y="4428720"/>
                  <a:ext cx="18468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4552920" y="4428720"/>
                  <a:ext cx="185040" cy="51264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8" name=""/>
              <p:cNvSpPr/>
              <p:nvPr/>
            </p:nvSpPr>
            <p:spPr>
              <a:xfrm rot="16200000">
                <a:off x="3874680" y="4128480"/>
                <a:ext cx="315360" cy="32940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"/>
            <p:cNvGrpSpPr/>
            <p:nvPr/>
          </p:nvGrpSpPr>
          <p:grpSpPr>
            <a:xfrm>
              <a:off x="5603040" y="3645000"/>
              <a:ext cx="1487880" cy="1296000"/>
              <a:chOff x="5603040" y="3645000"/>
              <a:chExt cx="1487880" cy="1296000"/>
            </a:xfrm>
          </p:grpSpPr>
          <p:sp>
            <p:nvSpPr>
              <p:cNvPr id="1190" name=""/>
              <p:cNvSpPr/>
              <p:nvPr/>
            </p:nvSpPr>
            <p:spPr>
              <a:xfrm>
                <a:off x="5931360" y="4164840"/>
                <a:ext cx="291240" cy="268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213600" y="4164840"/>
                <a:ext cx="291240" cy="268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507000" y="4164840"/>
                <a:ext cx="291240" cy="268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799680" y="4164840"/>
                <a:ext cx="291240" cy="26892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45520" y="3645000"/>
                <a:ext cx="18432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45520" y="4420800"/>
                <a:ext cx="18432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967360" y="3645000"/>
                <a:ext cx="18468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260400" y="3645000"/>
                <a:ext cx="18432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959080" y="4420800"/>
                <a:ext cx="18504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267600" y="4420800"/>
                <a:ext cx="18504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853680" y="3645000"/>
                <a:ext cx="18468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853680" y="4428360"/>
                <a:ext cx="184680" cy="51264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16200000">
                <a:off x="5609880" y="4138560"/>
                <a:ext cx="315360" cy="32940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0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4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205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206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210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2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13" name=""/>
          <p:cNvSpPr/>
          <p:nvPr/>
        </p:nvSpPr>
        <p:spPr>
          <a:xfrm>
            <a:off x="1763640" y="1844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 pattern rule must account for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ll elemen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f a pattern, including the </a:t>
            </a: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first on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"/>
          <p:cNvGrpSpPr/>
          <p:nvPr/>
        </p:nvGrpSpPr>
        <p:grpSpPr>
          <a:xfrm>
            <a:off x="2411280" y="2852640"/>
            <a:ext cx="4176720" cy="1007640"/>
            <a:chOff x="2411280" y="2852640"/>
            <a:chExt cx="4176720" cy="1007640"/>
          </a:xfrm>
        </p:grpSpPr>
        <p:grpSp>
          <p:nvGrpSpPr>
            <p:cNvPr id="1215" name=""/>
            <p:cNvGrpSpPr/>
            <p:nvPr/>
          </p:nvGrpSpPr>
          <p:grpSpPr>
            <a:xfrm>
              <a:off x="2411280" y="2858400"/>
              <a:ext cx="495000" cy="1001880"/>
              <a:chOff x="2411280" y="2858400"/>
              <a:chExt cx="495000" cy="100188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2674800" y="2858400"/>
                <a:ext cx="231480" cy="1001880"/>
                <a:chOff x="2674800" y="2858400"/>
                <a:chExt cx="231480" cy="100188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267480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71764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71152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0" name=""/>
              <p:cNvSpPr/>
              <p:nvPr/>
            </p:nvSpPr>
            <p:spPr>
              <a:xfrm rot="16200000">
                <a:off x="2419560" y="323820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3065400" y="2858400"/>
              <a:ext cx="725760" cy="1001880"/>
              <a:chOff x="3065400" y="2858400"/>
              <a:chExt cx="725760" cy="1001880"/>
            </a:xfrm>
          </p:grpSpPr>
          <p:grpSp>
            <p:nvGrpSpPr>
              <p:cNvPr id="1222" name=""/>
              <p:cNvGrpSpPr/>
              <p:nvPr/>
            </p:nvGrpSpPr>
            <p:grpSpPr>
              <a:xfrm>
                <a:off x="3328200" y="2858400"/>
                <a:ext cx="462960" cy="1001880"/>
                <a:chOff x="3328200" y="2858400"/>
                <a:chExt cx="462960" cy="1001880"/>
              </a:xfrm>
            </p:grpSpPr>
            <p:sp>
              <p:nvSpPr>
                <p:cNvPr id="1223" name=""/>
                <p:cNvSpPr/>
                <p:nvPr/>
              </p:nvSpPr>
              <p:spPr>
                <a:xfrm>
                  <a:off x="332820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4" name=""/>
                <p:cNvSpPr/>
                <p:nvPr/>
              </p:nvSpPr>
              <p:spPr>
                <a:xfrm>
                  <a:off x="355968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36960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60252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336348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60864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9" name=""/>
              <p:cNvSpPr/>
              <p:nvPr/>
            </p:nvSpPr>
            <p:spPr>
              <a:xfrm rot="16200000">
                <a:off x="3073680" y="3232800"/>
                <a:ext cx="245160" cy="26208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4026600" y="2858400"/>
              <a:ext cx="953640" cy="1001880"/>
              <a:chOff x="4026600" y="2858400"/>
              <a:chExt cx="953640" cy="1001880"/>
            </a:xfrm>
          </p:grpSpPr>
          <p:grpSp>
            <p:nvGrpSpPr>
              <p:cNvPr id="1231" name=""/>
              <p:cNvGrpSpPr/>
              <p:nvPr/>
            </p:nvGrpSpPr>
            <p:grpSpPr>
              <a:xfrm>
                <a:off x="4289400" y="2858400"/>
                <a:ext cx="690840" cy="1001880"/>
                <a:chOff x="4289400" y="2858400"/>
                <a:chExt cx="690840" cy="1001880"/>
              </a:xfrm>
            </p:grpSpPr>
            <p:sp>
              <p:nvSpPr>
                <p:cNvPr id="1232" name=""/>
                <p:cNvSpPr/>
                <p:nvPr/>
              </p:nvSpPr>
              <p:spPr>
                <a:xfrm>
                  <a:off x="428940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52196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4748760" y="3256920"/>
                  <a:ext cx="231480" cy="209160"/>
                </a:xfrm>
                <a:prstGeom prst="rect">
                  <a:avLst/>
                </a:prstGeom>
                <a:solidFill>
                  <a:srgbClr val="ff99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79160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79160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433224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4564800" y="285840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432612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4570920" y="3461760"/>
                  <a:ext cx="146880" cy="398520"/>
                </a:xfrm>
                <a:prstGeom prst="diamond">
                  <a:avLst/>
                </a:prstGeom>
                <a:solidFill>
                  <a:srgbClr val="fad87a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1" name=""/>
              <p:cNvSpPr/>
              <p:nvPr/>
            </p:nvSpPr>
            <p:spPr>
              <a:xfrm rot="16200000">
                <a:off x="4034880" y="322560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5405400" y="2852640"/>
              <a:ext cx="1182600" cy="1007640"/>
              <a:chOff x="5405400" y="2852640"/>
              <a:chExt cx="1182600" cy="1007640"/>
            </a:xfrm>
          </p:grpSpPr>
          <p:sp>
            <p:nvSpPr>
              <p:cNvPr id="1243" name=""/>
              <p:cNvSpPr/>
              <p:nvPr/>
            </p:nvSpPr>
            <p:spPr>
              <a:xfrm>
                <a:off x="5666040" y="325692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890680" y="325692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6123960" y="325692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6356520" y="3256920"/>
                <a:ext cx="231480" cy="209160"/>
              </a:xfrm>
              <a:prstGeom prst="rect">
                <a:avLst/>
              </a:prstGeom>
              <a:solidFill>
                <a:srgbClr val="ff99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154200" y="285264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6154200" y="345600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694840" y="285264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927760" y="285264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688360" y="3456000"/>
                <a:ext cx="14724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933520" y="3456000"/>
                <a:ext cx="14724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399360" y="285264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399360" y="3461760"/>
                <a:ext cx="146520" cy="398520"/>
              </a:xfrm>
              <a:prstGeom prst="diamond">
                <a:avLst/>
              </a:prstGeom>
              <a:solidFill>
                <a:srgbClr val="fad87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rot="16200000">
                <a:off x="5413680" y="3233520"/>
                <a:ext cx="245160" cy="261720"/>
              </a:xfrm>
              <a:prstGeom prst="triangle">
                <a:avLst>
                  <a:gd name="adj" fmla="val 5000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256" name=""/>
          <p:cNvGraphicFramePr/>
          <p:nvPr/>
        </p:nvGraphicFramePr>
        <p:xfrm>
          <a:off x="1332000" y="4149720"/>
          <a:ext cx="6615000" cy="669960"/>
        </p:xfrm>
        <a:graphic>
          <a:graphicData uri="http://schemas.openxmlformats.org/drawingml/2006/table">
            <a:tbl>
              <a:tblPr/>
              <a:tblGrid>
                <a:gridCol w="1892160"/>
                <a:gridCol w="674640"/>
                <a:gridCol w="674640"/>
                <a:gridCol w="675000"/>
                <a:gridCol w="674640"/>
                <a:gridCol w="674640"/>
                <a:gridCol w="674640"/>
                <a:gridCol w="6746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dy 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7" name=""/>
          <p:cNvSpPr/>
          <p:nvPr/>
        </p:nvSpPr>
        <p:spPr>
          <a:xfrm>
            <a:off x="1835280" y="5157720"/>
            <a:ext cx="612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Body par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: Start at 4 and add 3 ea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: Start at 1 and add 1 each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Relationship: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ody parts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—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 times the age plu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26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26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26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9" name=""/>
          <p:cNvSpPr/>
          <p:nvPr/>
        </p:nvSpPr>
        <p:spPr>
          <a:xfrm>
            <a:off x="2268360" y="1628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Patter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11280" y="55897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ddition Charts, Hundred Charts, What Are the Clu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1" name="" descr=""/>
          <p:cNvPicPr/>
          <p:nvPr/>
        </p:nvPicPr>
        <p:blipFill>
          <a:blip r:embed="rId1"/>
          <a:stretch/>
        </p:blipFill>
        <p:spPr>
          <a:xfrm>
            <a:off x="5867280" y="2492280"/>
            <a:ext cx="2433600" cy="1971720"/>
          </a:xfrm>
          <a:prstGeom prst="rect">
            <a:avLst/>
          </a:prstGeom>
          <a:ln w="0">
            <a:noFill/>
          </a:ln>
        </p:spPr>
      </p:pic>
      <p:pic>
        <p:nvPicPr>
          <p:cNvPr id="1272" name="" descr=""/>
          <p:cNvPicPr/>
          <p:nvPr/>
        </p:nvPicPr>
        <p:blipFill>
          <a:blip r:embed="rId2"/>
          <a:stretch/>
        </p:blipFill>
        <p:spPr>
          <a:xfrm>
            <a:off x="1260360" y="2460600"/>
            <a:ext cx="2560680" cy="2089080"/>
          </a:xfrm>
          <a:prstGeom prst="rect">
            <a:avLst/>
          </a:prstGeom>
          <a:ln w="0">
            <a:noFill/>
          </a:ln>
        </p:spPr>
      </p:pic>
      <p:pic>
        <p:nvPicPr>
          <p:cNvPr id="1273" name="" descr=""/>
          <p:cNvPicPr/>
          <p:nvPr/>
        </p:nvPicPr>
        <p:blipFill>
          <a:blip r:embed="rId3"/>
          <a:stretch/>
        </p:blipFill>
        <p:spPr>
          <a:xfrm>
            <a:off x="2268360" y="3213000"/>
            <a:ext cx="2470320" cy="2055960"/>
          </a:xfrm>
          <a:prstGeom prst="rect">
            <a:avLst/>
          </a:prstGeom>
          <a:ln w="0">
            <a:noFill/>
          </a:ln>
        </p:spPr>
      </p:pic>
      <p:pic>
        <p:nvPicPr>
          <p:cNvPr id="1274" name="" descr=""/>
          <p:cNvPicPr/>
          <p:nvPr/>
        </p:nvPicPr>
        <p:blipFill>
          <a:blip r:embed="rId4"/>
          <a:stretch/>
        </p:blipFill>
        <p:spPr>
          <a:xfrm>
            <a:off x="5148360" y="3429000"/>
            <a:ext cx="1762200" cy="1762200"/>
          </a:xfrm>
          <a:prstGeom prst="rect">
            <a:avLst/>
          </a:prstGeom>
          <a:ln w="0">
            <a:noFill/>
          </a:ln>
        </p:spPr>
      </p:pic>
      <p:sp>
        <p:nvSpPr>
          <p:cNvPr id="1275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6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280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281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4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285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7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288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960720" cy="3411720"/>
          </a:xfrm>
          <a:prstGeom prst="rect">
            <a:avLst/>
          </a:prstGeom>
          <a:ln w="0">
            <a:noFill/>
          </a:ln>
        </p:spPr>
      </p:pic>
      <p:sp>
        <p:nvSpPr>
          <p:cNvPr id="1289" name=""/>
          <p:cNvSpPr/>
          <p:nvPr/>
        </p:nvSpPr>
        <p:spPr>
          <a:xfrm>
            <a:off x="611280" y="551664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000000"/>
                </a:solidFill>
                <a:latin typeface="Times New Roman"/>
              </a:rPr>
              <a:t>Two of Everything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by Lily Toy H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395280" y="6093000"/>
            <a:ext cx="784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Illustrations on slides 27 to 36 and text on slides 28 to 34 are reproduced from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Two of Everything 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by Lily Toy Hong. Copyright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1993 by Lily Toy Hong. Excerpts reprinted by permission of Albert Whitman &amp; Company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4" name="" descr=""/>
          <p:cNvPicPr/>
          <p:nvPr/>
        </p:nvPicPr>
        <p:blipFill>
          <a:blip r:embed="rId1"/>
          <a:stretch/>
        </p:blipFill>
        <p:spPr>
          <a:xfrm>
            <a:off x="1181160" y="515880"/>
            <a:ext cx="6919920" cy="5899320"/>
          </a:xfrm>
          <a:prstGeom prst="rect">
            <a:avLst/>
          </a:prstGeom>
          <a:ln w="0">
            <a:noFill/>
          </a:ln>
        </p:spPr>
      </p:pic>
      <p:sp>
        <p:nvSpPr>
          <p:cNvPr id="129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8" name="" descr=""/>
          <p:cNvPicPr/>
          <p:nvPr/>
        </p:nvPicPr>
        <p:blipFill>
          <a:blip r:embed="rId1"/>
          <a:stretch/>
        </p:blipFill>
        <p:spPr>
          <a:xfrm>
            <a:off x="1152360" y="279360"/>
            <a:ext cx="7164720" cy="602604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835280" y="549360"/>
            <a:ext cx="65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y Teach Patterns and Pre-Algeb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4437000"/>
            <a:ext cx="4321080" cy="12805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orking with patterns enables students to make connections both within and beyond mathemat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3789360"/>
            <a:ext cx="1368360" cy="111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71640" y="4365720"/>
            <a:ext cx="1296720" cy="11332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2195640" y="5084640"/>
            <a:ext cx="1296720" cy="125748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1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1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1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"/>
          <p:cNvSpPr/>
          <p:nvPr/>
        </p:nvSpPr>
        <p:spPr>
          <a:xfrm>
            <a:off x="826920" y="1413000"/>
            <a:ext cx="5185080" cy="128052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rough the study of patterns, students come to interpret their world mathematically and value mathematics as a useful t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 rot="10800000">
            <a:off x="3779640" y="2924280"/>
            <a:ext cx="2284200" cy="380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6732720" y="1268280"/>
            <a:ext cx="1282680" cy="995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6659640" y="2637000"/>
            <a:ext cx="1409760" cy="9507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2" name="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7280280" cy="6246720"/>
          </a:xfrm>
          <a:prstGeom prst="rect">
            <a:avLst/>
          </a:prstGeom>
          <a:ln w="0">
            <a:noFill/>
          </a:ln>
        </p:spPr>
      </p:pic>
      <p:sp>
        <p:nvSpPr>
          <p:cNvPr id="130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6" name="" descr=""/>
          <p:cNvPicPr/>
          <p:nvPr/>
        </p:nvPicPr>
        <p:blipFill>
          <a:blip r:embed="rId1"/>
          <a:stretch/>
        </p:blipFill>
        <p:spPr>
          <a:xfrm>
            <a:off x="1187280" y="260280"/>
            <a:ext cx="7069320" cy="6147000"/>
          </a:xfrm>
          <a:prstGeom prst="rect">
            <a:avLst/>
          </a:prstGeom>
          <a:ln w="0">
            <a:noFill/>
          </a:ln>
        </p:spPr>
      </p:pic>
      <p:sp>
        <p:nvSpPr>
          <p:cNvPr id="130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0" name="" descr=""/>
          <p:cNvPicPr/>
          <p:nvPr/>
        </p:nvPicPr>
        <p:blipFill>
          <a:blip r:embed="rId1"/>
          <a:stretch/>
        </p:blipFill>
        <p:spPr>
          <a:xfrm>
            <a:off x="755640" y="184320"/>
            <a:ext cx="7416720" cy="6305400"/>
          </a:xfrm>
          <a:prstGeom prst="rect">
            <a:avLst/>
          </a:prstGeom>
          <a:ln w="0">
            <a:noFill/>
          </a:ln>
        </p:spPr>
      </p:pic>
      <p:sp>
        <p:nvSpPr>
          <p:cNvPr id="131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1090440" y="425520"/>
            <a:ext cx="7153560" cy="585144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171440" y="328680"/>
            <a:ext cx="7072560" cy="5972040"/>
          </a:xfrm>
          <a:prstGeom prst="rect">
            <a:avLst/>
          </a:prstGeom>
          <a:ln w="0">
            <a:noFill/>
          </a:ln>
        </p:spPr>
      </p:pic>
      <p:sp>
        <p:nvSpPr>
          <p:cNvPr id="1319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" descr=""/>
          <p:cNvPicPr/>
          <p:nvPr/>
        </p:nvPicPr>
        <p:blipFill>
          <a:blip r:embed="rId1"/>
          <a:stretch/>
        </p:blipFill>
        <p:spPr>
          <a:xfrm>
            <a:off x="1166760" y="433440"/>
            <a:ext cx="6934320" cy="5886360"/>
          </a:xfrm>
          <a:prstGeom prst="rect">
            <a:avLst/>
          </a:prstGeom>
          <a:ln w="0">
            <a:noFill/>
          </a:ln>
        </p:spPr>
      </p:pic>
      <p:sp>
        <p:nvSpPr>
          <p:cNvPr id="1323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6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327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328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1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332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4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 rules generalize relationship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335" name="" descr=""/>
          <p:cNvPicPr/>
          <p:nvPr/>
        </p:nvPicPr>
        <p:blipFill>
          <a:blip r:embed="rId1"/>
          <a:stretch/>
        </p:blipFill>
        <p:spPr>
          <a:xfrm>
            <a:off x="1116000" y="2492280"/>
            <a:ext cx="3097080" cy="2667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36" name=""/>
          <p:cNvSpPr/>
          <p:nvPr/>
        </p:nvSpPr>
        <p:spPr>
          <a:xfrm>
            <a:off x="4356000" y="2133720"/>
            <a:ext cx="403236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Would you rather have a doubling pot and a loonie, if you could only use the pot ten times, or…$1 000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: Excerpted and reprinted with permission from National Council of Teachers of Mathematics. (2003). </a:t>
            </a:r>
            <a:r>
              <a:rPr b="0" i="1" lang="en-CA" sz="1000" spc="-1" strike="noStrike">
                <a:solidFill>
                  <a:srgbClr val="000000"/>
                </a:solidFill>
                <a:latin typeface="Times New Roman"/>
              </a:rPr>
              <a:t>Reflections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. Retrieved November 20, 2006, from http://my.nctm.org/eresources/reflections, copyright 2003 by the National Council of Teachers of Mathematics. All rights reserve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427640" y="4076640"/>
            <a:ext cx="4032000" cy="15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Create your own magic pot.  Make up a pattern rule for your pot.  Show what happens on an in-out ch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: Adapted from </a:t>
            </a: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</a:rPr>
              <a:t>Lessons for Algebraic Thinking: Grades K</a:t>
            </a: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–</a:t>
            </a:r>
            <a:r>
              <a:rPr b="0" lang="en-CA" sz="10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, by Leyani von Rotz and Marilyn Burns. Copyright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 </a:t>
            </a:r>
            <a:r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2002 by Math Solutions Publication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34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34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34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9" name=""/>
          <p:cNvSpPr/>
          <p:nvPr/>
        </p:nvSpPr>
        <p:spPr>
          <a:xfrm>
            <a:off x="4381560" y="3278160"/>
            <a:ext cx="509400" cy="642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743280" y="2421000"/>
            <a:ext cx="382680" cy="428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"/>
          <p:cNvGrpSpPr/>
          <p:nvPr/>
        </p:nvGrpSpPr>
        <p:grpSpPr>
          <a:xfrm>
            <a:off x="2340000" y="2421000"/>
            <a:ext cx="4592520" cy="857160"/>
            <a:chOff x="2340000" y="2421000"/>
            <a:chExt cx="4592520" cy="857160"/>
          </a:xfrm>
        </p:grpSpPr>
        <p:sp>
          <p:nvSpPr>
            <p:cNvPr id="1352" name=""/>
            <p:cNvSpPr/>
            <p:nvPr/>
          </p:nvSpPr>
          <p:spPr>
            <a:xfrm>
              <a:off x="2340000" y="3278160"/>
              <a:ext cx="45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595600" y="28494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978280" y="2849400"/>
              <a:ext cx="38232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781360" y="242100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743280" y="28494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656320" y="242100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273640" y="242100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784840" y="28494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02160" y="28494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019840" y="2849400"/>
              <a:ext cx="38232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2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3" name=""/>
          <p:cNvSpPr/>
          <p:nvPr/>
        </p:nvSpPr>
        <p:spPr>
          <a:xfrm>
            <a:off x="3708360" y="414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 + 2 =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682560" y="5268240"/>
            <a:ext cx="79930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Equalit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(=) expresses a relationship of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balan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between numb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133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nequality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expresses a relationship of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mbalanc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5" name=""/>
          <p:cNvGrpSpPr/>
          <p:nvPr/>
        </p:nvGrpSpPr>
        <p:grpSpPr>
          <a:xfrm>
            <a:off x="2494080" y="1826640"/>
            <a:ext cx="4301280" cy="2257560"/>
            <a:chOff x="2494080" y="1826640"/>
            <a:chExt cx="4301280" cy="2257560"/>
          </a:xfrm>
        </p:grpSpPr>
        <p:sp>
          <p:nvSpPr>
            <p:cNvPr id="1366" name=""/>
            <p:cNvSpPr/>
            <p:nvPr/>
          </p:nvSpPr>
          <p:spPr>
            <a:xfrm>
              <a:off x="2494080" y="2474640"/>
              <a:ext cx="4301280" cy="160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 rot="1231200">
              <a:off x="2796480" y="221580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rot="1231200">
              <a:off x="3154680" y="2350080"/>
              <a:ext cx="38232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 rot="1231200">
              <a:off x="3120480" y="187992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rot="1231200">
              <a:off x="3871080" y="261828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 rot="1231200">
              <a:off x="5812920" y="288756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rot="1231200">
              <a:off x="5454720" y="2753280"/>
              <a:ext cx="382680" cy="428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 rot="1231200">
              <a:off x="5783400" y="333396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 rot="1231200">
              <a:off x="5424840" y="3199680"/>
              <a:ext cx="38268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 rot="1231200">
              <a:off x="5066640" y="3065760"/>
              <a:ext cx="382320" cy="42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6" name=""/>
          <p:cNvSpPr/>
          <p:nvPr/>
        </p:nvSpPr>
        <p:spPr>
          <a:xfrm>
            <a:off x="3722760" y="414972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3 + 1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5" dur="5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38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38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38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8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9" name=""/>
          <p:cNvSpPr/>
          <p:nvPr/>
        </p:nvSpPr>
        <p:spPr>
          <a:xfrm>
            <a:off x="1042920" y="2060640"/>
            <a:ext cx="331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Times New Roman"/>
              </a:rPr>
              <a:t>What do elementary students think the equal sign mea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0" name="" descr=""/>
          <p:cNvPicPr/>
          <p:nvPr/>
        </p:nvPicPr>
        <p:blipFill>
          <a:blip r:embed="rId1"/>
          <a:stretch/>
        </p:blipFill>
        <p:spPr>
          <a:xfrm>
            <a:off x="4427640" y="2637000"/>
            <a:ext cx="4033800" cy="3130560"/>
          </a:xfrm>
          <a:prstGeom prst="rect">
            <a:avLst/>
          </a:prstGeom>
          <a:ln w="0">
            <a:noFill/>
          </a:ln>
        </p:spPr>
      </p:pic>
      <p:sp>
        <p:nvSpPr>
          <p:cNvPr id="139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395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396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400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2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03" name=""/>
          <p:cNvSpPr/>
          <p:nvPr/>
        </p:nvSpPr>
        <p:spPr>
          <a:xfrm>
            <a:off x="971640" y="5788800"/>
            <a:ext cx="714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: Excerpted and reprinted with permission from Fennel, F., &amp; Rowan, T. (January 2001). Representation: An Important Process for Teaching and Learning Mathematics. </a:t>
            </a:r>
            <a:r>
              <a:rPr b="0" i="1" lang="en-CA" sz="1000" spc="-1" strike="noStrike">
                <a:solidFill>
                  <a:srgbClr val="000000"/>
                </a:solidFill>
                <a:latin typeface="Arial"/>
              </a:rPr>
              <a:t>Teaching Children Mathematics, 7</a:t>
            </a: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(5), 288–292, copyright 2001 by the National Council of Teachers of Mathematics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rcRect l="8854" t="7730" r="54539" b="67242"/>
          <a:stretch/>
        </p:blipFill>
        <p:spPr>
          <a:xfrm>
            <a:off x="4859280" y="4005360"/>
            <a:ext cx="3097440" cy="161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05" name="" descr=""/>
          <p:cNvPicPr/>
          <p:nvPr/>
        </p:nvPicPr>
        <p:blipFill>
          <a:blip r:embed="rId2"/>
          <a:srcRect l="55571" t="13501" r="6544" b="51868"/>
          <a:stretch/>
        </p:blipFill>
        <p:spPr>
          <a:xfrm>
            <a:off x="1547640" y="3716280"/>
            <a:ext cx="3097440" cy="1900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06" name="" descr=""/>
          <p:cNvPicPr/>
          <p:nvPr/>
        </p:nvPicPr>
        <p:blipFill>
          <a:blip r:embed="rId3"/>
          <a:srcRect l="8854" t="57768" r="57074" b="5643"/>
          <a:stretch/>
        </p:blipFill>
        <p:spPr>
          <a:xfrm>
            <a:off x="2124000" y="1916280"/>
            <a:ext cx="2519280" cy="1631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407" name="" descr=""/>
          <p:cNvPicPr/>
          <p:nvPr/>
        </p:nvPicPr>
        <p:blipFill>
          <a:blip r:embed="rId4"/>
          <a:srcRect l="58106" t="57768" r="14142" b="13330"/>
          <a:stretch/>
        </p:blipFill>
        <p:spPr>
          <a:xfrm>
            <a:off x="4932360" y="1941480"/>
            <a:ext cx="2519280" cy="1852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0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26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27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31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"/>
          <p:cNvSpPr/>
          <p:nvPr/>
        </p:nvSpPr>
        <p:spPr>
          <a:xfrm>
            <a:off x="1979640" y="620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hy Teach Patterns and Pre-Algeb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5640" y="1484280"/>
            <a:ext cx="5599080" cy="155484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By generalizing patterns, students develop strategies that can be used to solve a wide range of problems. Mathematics is seen as reasoning rather than solving one unrelated problem after ano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877080" y="1557360"/>
            <a:ext cx="1596600" cy="1157400"/>
            <a:chOff x="6877080" y="1557360"/>
            <a:chExt cx="1596600" cy="1157400"/>
          </a:xfrm>
        </p:grpSpPr>
        <p:pic>
          <p:nvPicPr>
            <p:cNvPr id="136" name="HANGR001" descr=""/>
            <p:cNvPicPr/>
            <p:nvPr/>
          </p:nvPicPr>
          <p:blipFill>
            <a:blip r:embed="rId1"/>
            <a:stretch/>
          </p:blipFill>
          <p:spPr>
            <a:xfrm>
              <a:off x="6877080" y="1557360"/>
              <a:ext cx="1596600" cy="1047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7" name=""/>
            <p:cNvGrpSpPr/>
            <p:nvPr/>
          </p:nvGrpSpPr>
          <p:grpSpPr>
            <a:xfrm>
              <a:off x="7022880" y="2349720"/>
              <a:ext cx="1291680" cy="365040"/>
              <a:chOff x="7022880" y="2349720"/>
              <a:chExt cx="1291680" cy="365040"/>
            </a:xfrm>
          </p:grpSpPr>
          <p:sp>
            <p:nvSpPr>
              <p:cNvPr id="138" name=""/>
              <p:cNvSpPr/>
              <p:nvPr/>
            </p:nvSpPr>
            <p:spPr>
              <a:xfrm>
                <a:off x="7484040" y="2349720"/>
                <a:ext cx="369000" cy="365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440" bIns="13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CA" sz="11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10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7022880" y="2440800"/>
                <a:ext cx="369000" cy="182520"/>
                <a:chOff x="7022880" y="2440800"/>
                <a:chExt cx="369000" cy="18252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702288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11504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20720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29972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391880" y="244080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7945560" y="2349720"/>
                <a:ext cx="369000" cy="182520"/>
                <a:chOff x="7945560" y="2349720"/>
                <a:chExt cx="369000" cy="18252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794556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803772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812988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22240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314560" y="2349720"/>
                  <a:ext cx="0" cy="18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" name=""/>
          <p:cNvSpPr/>
          <p:nvPr/>
        </p:nvSpPr>
        <p:spPr>
          <a:xfrm>
            <a:off x="4211640" y="3573360"/>
            <a:ext cx="4392720" cy="237780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8600" bIns="2286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ploring patterns and pre-algebra in elementary school lays the foundation for the study of formal algebra. Rather than a new topic, algebra becomes a natural extension of the elementary curriculum and is often defined as generalized arithmetic and geomet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08400" y="4670280"/>
            <a:ext cx="339480" cy="3430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42920" y="4670280"/>
            <a:ext cx="3070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12840" y="4441680"/>
            <a:ext cx="25704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69880" y="44416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338120" y="42130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60880" y="42130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05280" y="42130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346560" y="44416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89160" y="4441680"/>
            <a:ext cx="2574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833560" y="4441680"/>
            <a:ext cx="255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366920" y="5084640"/>
            <a:ext cx="26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3 + </a:t>
            </a:r>
            <a:r>
              <a:rPr b="0" lang="en-CA" sz="36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r>
              <a:rPr b="0" lang="en-CA" sz="3600" spc="-1" strike="noStrike">
                <a:solidFill>
                  <a:srgbClr val="000000"/>
                </a:solidFill>
                <a:latin typeface="Arial"/>
              </a:rPr>
              <a:t> =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1800360" y="4100400"/>
            <a:ext cx="726840" cy="5875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41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41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41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9" name=""/>
          <p:cNvSpPr/>
          <p:nvPr/>
        </p:nvSpPr>
        <p:spPr>
          <a:xfrm>
            <a:off x="552600" y="4445280"/>
            <a:ext cx="8208720" cy="17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4960" indent="-26496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Equality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inequality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between quantities can be considered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ol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ol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5 =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ole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lationships (3 + 5 = 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whole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lationships (8 = 5 +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>
              <a:buClr>
                <a:srgbClr val="000000"/>
              </a:buClr>
              <a:buFont typeface="Arial"/>
              <a:buChar char="•"/>
              <a:tabLst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art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relationships</a:t>
            </a: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(4 + 4 = 3 + 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1187280" y="1987560"/>
            <a:ext cx="3095640" cy="936720"/>
            <a:chOff x="1187280" y="1987560"/>
            <a:chExt cx="3095640" cy="936720"/>
          </a:xfrm>
        </p:grpSpPr>
        <p:sp>
          <p:nvSpPr>
            <p:cNvPr id="1422" name=""/>
            <p:cNvSpPr/>
            <p:nvPr/>
          </p:nvSpPr>
          <p:spPr>
            <a:xfrm>
              <a:off x="2556000" y="2563920"/>
              <a:ext cx="342720" cy="360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187280" y="255744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389400" y="198756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132000" y="1987560"/>
              <a:ext cx="25740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510000" y="227340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251160" y="2273400"/>
              <a:ext cx="2588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994120" y="227340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092320" y="198756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835280" y="1987560"/>
              <a:ext cx="2570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227320" y="227340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968480" y="2273400"/>
              <a:ext cx="2588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711440" y="227340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4" name=""/>
          <p:cNvGrpSpPr/>
          <p:nvPr/>
        </p:nvGrpSpPr>
        <p:grpSpPr>
          <a:xfrm>
            <a:off x="1187280" y="3000240"/>
            <a:ext cx="3095640" cy="1220760"/>
            <a:chOff x="1187280" y="3000240"/>
            <a:chExt cx="3095640" cy="1220760"/>
          </a:xfrm>
        </p:grpSpPr>
        <p:sp>
          <p:nvSpPr>
            <p:cNvPr id="1435" name=""/>
            <p:cNvSpPr/>
            <p:nvPr/>
          </p:nvSpPr>
          <p:spPr>
            <a:xfrm>
              <a:off x="2556000" y="3860640"/>
              <a:ext cx="342720" cy="360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187280" y="385452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187280" y="3570120"/>
              <a:ext cx="25740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444680" y="3570120"/>
              <a:ext cx="25704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11120" y="328428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394080" y="328428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137040" y="3284280"/>
              <a:ext cx="2570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510000" y="3570120"/>
              <a:ext cx="25704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251160" y="3570120"/>
              <a:ext cx="25884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994120" y="3570120"/>
              <a:ext cx="257040" cy="28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236680" y="328608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979640" y="3286080"/>
              <a:ext cx="2570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370240" y="357192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111400" y="3571920"/>
              <a:ext cx="2588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854360" y="357192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763800" y="3571920"/>
              <a:ext cx="258840" cy="28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652920" y="328608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405240" y="3000240"/>
              <a:ext cx="258840" cy="2858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3" name=""/>
          <p:cNvGrpSpPr/>
          <p:nvPr/>
        </p:nvGrpSpPr>
        <p:grpSpPr>
          <a:xfrm>
            <a:off x="4858920" y="1700280"/>
            <a:ext cx="3095640" cy="1217520"/>
            <a:chOff x="4858920" y="1700280"/>
            <a:chExt cx="3095640" cy="1217520"/>
          </a:xfrm>
        </p:grpSpPr>
        <p:sp>
          <p:nvSpPr>
            <p:cNvPr id="1454" name=""/>
            <p:cNvSpPr/>
            <p:nvPr/>
          </p:nvSpPr>
          <p:spPr>
            <a:xfrm>
              <a:off x="6229440" y="2557440"/>
              <a:ext cx="343080" cy="360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4858920" y="1700280"/>
              <a:ext cx="3095640" cy="857160"/>
              <a:chOff x="4858920" y="1700280"/>
              <a:chExt cx="3095640" cy="857160"/>
            </a:xfrm>
          </p:grpSpPr>
          <p:sp>
            <p:nvSpPr>
              <p:cNvPr id="1456" name=""/>
              <p:cNvSpPr/>
              <p:nvPr/>
            </p:nvSpPr>
            <p:spPr>
              <a:xfrm flipH="1">
                <a:off x="4858920" y="2554560"/>
                <a:ext cx="30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H="1">
                <a:off x="7696800" y="2270160"/>
                <a:ext cx="25740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>
                <a:off x="7440120" y="2270160"/>
                <a:ext cx="25704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7571520" y="198432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5488560" y="198432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H="1">
                <a:off x="5747760" y="1984320"/>
                <a:ext cx="2570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>
                <a:off x="5374800" y="2270160"/>
                <a:ext cx="25704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H="1">
                <a:off x="5631480" y="2270160"/>
                <a:ext cx="25884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>
                <a:off x="5890680" y="2270160"/>
                <a:ext cx="257040" cy="2844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>
                <a:off x="6645960" y="198612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>
                <a:off x="6905160" y="1986120"/>
                <a:ext cx="2570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 flipH="1">
                <a:off x="6514560" y="2271960"/>
                <a:ext cx="257040" cy="28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 flipH="1">
                <a:off x="6771240" y="2271960"/>
                <a:ext cx="258840" cy="28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H="1">
                <a:off x="7030440" y="2271960"/>
                <a:ext cx="257040" cy="284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H="1">
                <a:off x="5118840" y="2271960"/>
                <a:ext cx="258840" cy="28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5229720" y="198612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H="1">
                <a:off x="5477400" y="1700280"/>
                <a:ext cx="258840" cy="2858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3" name=""/>
          <p:cNvGrpSpPr/>
          <p:nvPr/>
        </p:nvGrpSpPr>
        <p:grpSpPr>
          <a:xfrm>
            <a:off x="4932360" y="3284640"/>
            <a:ext cx="3095640" cy="936000"/>
            <a:chOff x="4932360" y="3284640"/>
            <a:chExt cx="3095640" cy="936000"/>
          </a:xfrm>
        </p:grpSpPr>
        <p:sp>
          <p:nvSpPr>
            <p:cNvPr id="1474" name=""/>
            <p:cNvSpPr/>
            <p:nvPr/>
          </p:nvSpPr>
          <p:spPr>
            <a:xfrm>
              <a:off x="6300720" y="3860640"/>
              <a:ext cx="343080" cy="360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932360" y="385416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6" name=""/>
            <p:cNvGrpSpPr/>
            <p:nvPr/>
          </p:nvGrpSpPr>
          <p:grpSpPr>
            <a:xfrm>
              <a:off x="5794200" y="3284640"/>
              <a:ext cx="517320" cy="569160"/>
              <a:chOff x="5794200" y="3284640"/>
              <a:chExt cx="517320" cy="569160"/>
            </a:xfrm>
          </p:grpSpPr>
          <p:sp>
            <p:nvSpPr>
              <p:cNvPr id="1477" name=""/>
              <p:cNvSpPr/>
              <p:nvPr/>
            </p:nvSpPr>
            <p:spPr>
              <a:xfrm>
                <a:off x="6053040" y="3284640"/>
                <a:ext cx="258480" cy="28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794200" y="3284640"/>
                <a:ext cx="2570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044760" y="3570120"/>
                <a:ext cx="2588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794200" y="3562200"/>
                <a:ext cx="2570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"/>
            <p:cNvGrpSpPr/>
            <p:nvPr/>
          </p:nvGrpSpPr>
          <p:grpSpPr>
            <a:xfrm>
              <a:off x="5060880" y="3284640"/>
              <a:ext cx="517320" cy="569160"/>
              <a:chOff x="5060880" y="3284640"/>
              <a:chExt cx="517320" cy="569160"/>
            </a:xfrm>
          </p:grpSpPr>
          <p:sp>
            <p:nvSpPr>
              <p:cNvPr id="1482" name=""/>
              <p:cNvSpPr/>
              <p:nvPr/>
            </p:nvSpPr>
            <p:spPr>
              <a:xfrm>
                <a:off x="5319720" y="3284640"/>
                <a:ext cx="258480" cy="2854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060880" y="3284640"/>
                <a:ext cx="2570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311440" y="3570120"/>
                <a:ext cx="2588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060880" y="3562200"/>
                <a:ext cx="257040" cy="28368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6" name=""/>
            <p:cNvSpPr/>
            <p:nvPr/>
          </p:nvSpPr>
          <p:spPr>
            <a:xfrm>
              <a:off x="6586560" y="3570120"/>
              <a:ext cx="257040" cy="2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43600" y="3570120"/>
              <a:ext cx="257400" cy="283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710400" y="3284640"/>
              <a:ext cx="258840" cy="285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35960" y="3286080"/>
              <a:ext cx="258480" cy="285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378560" y="3286080"/>
              <a:ext cx="257400" cy="2851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69160" y="357156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510320" y="3571560"/>
              <a:ext cx="2588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253280" y="3571560"/>
              <a:ext cx="257040" cy="2840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49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49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0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505" name=""/>
          <p:cNvGraphicFramePr/>
          <p:nvPr/>
        </p:nvGraphicFramePr>
        <p:xfrm>
          <a:off x="1116000" y="2492280"/>
          <a:ext cx="6985080" cy="1940040"/>
        </p:xfrm>
        <a:graphic>
          <a:graphicData uri="http://schemas.openxmlformats.org/drawingml/2006/table">
            <a:tbl>
              <a:tblPr/>
              <a:tblGrid>
                <a:gridCol w="1763640"/>
                <a:gridCol w="1046160"/>
                <a:gridCol w="1042920"/>
                <a:gridCol w="1044720"/>
                <a:gridCol w="1044720"/>
                <a:gridCol w="104292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35080"/>
                          <a:tab algn="ctr" pos="4935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 and 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453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s 1 and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2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s 3 and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3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rades 5 and 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grpSp>
        <p:nvGrpSpPr>
          <p:cNvPr id="1506" name=""/>
          <p:cNvGrpSpPr/>
          <p:nvPr/>
        </p:nvGrpSpPr>
        <p:grpSpPr>
          <a:xfrm>
            <a:off x="3206160" y="1627920"/>
            <a:ext cx="2820240" cy="642600"/>
            <a:chOff x="3206160" y="1627920"/>
            <a:chExt cx="2820240" cy="642600"/>
          </a:xfrm>
        </p:grpSpPr>
        <p:sp>
          <p:nvSpPr>
            <p:cNvPr id="1507" name=""/>
            <p:cNvSpPr/>
            <p:nvPr/>
          </p:nvSpPr>
          <p:spPr>
            <a:xfrm>
              <a:off x="3206160" y="1627920"/>
              <a:ext cx="2820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600" spc="-1" strike="noStrike">
                  <a:solidFill>
                    <a:srgbClr val="000000"/>
                  </a:solidFill>
                  <a:latin typeface="Arial"/>
                </a:rPr>
                <a:t>8 + 4 =    + 5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859280" y="1771560"/>
              <a:ext cx="287280" cy="36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9" name=""/>
          <p:cNvSpPr/>
          <p:nvPr/>
        </p:nvSpPr>
        <p:spPr>
          <a:xfrm>
            <a:off x="611280" y="6020640"/>
            <a:ext cx="777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. 4)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667800" y="4723920"/>
            <a:ext cx="79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nswer comes next: 8 + 4 = 12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all the numbers (overgeneralizing associative property): 8 + 4 = 17 +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ing the problem: 8 + 4 = 12 + 5 =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2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16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17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0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21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3" name=""/>
          <p:cNvSpPr/>
          <p:nvPr/>
        </p:nvSpPr>
        <p:spPr>
          <a:xfrm>
            <a:off x="971640" y="2060640"/>
            <a:ext cx="7272360" cy="22125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obin: Second-grad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18 + 27 = </a:t>
            </a: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</a:t>
            </a:r>
            <a:r>
              <a:rPr b="0" lang="en-US" sz="4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+ 29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5" name=""/>
          <p:cNvSpPr/>
          <p:nvPr/>
        </p:nvSpPr>
        <p:spPr>
          <a:xfrm>
            <a:off x="971640" y="4221000"/>
            <a:ext cx="7272360" cy="64260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wenty-nine is 2 more than 27, so the number in the box has to be 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 less than 18 to make the 2 sides equal.  So it’s 16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684360" y="5949360"/>
            <a:ext cx="7705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. 4)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3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3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3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8" name=""/>
          <p:cNvSpPr txBox="1"/>
          <p:nvPr/>
        </p:nvSpPr>
        <p:spPr>
          <a:xfrm>
            <a:off x="1403280" y="54936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2411280" y="5164200"/>
            <a:ext cx="4537080" cy="642600"/>
            <a:chOff x="2411280" y="5164200"/>
            <a:chExt cx="4537080" cy="642600"/>
          </a:xfrm>
        </p:grpSpPr>
        <p:sp>
          <p:nvSpPr>
            <p:cNvPr id="1540" name=""/>
            <p:cNvSpPr/>
            <p:nvPr/>
          </p:nvSpPr>
          <p:spPr>
            <a:xfrm>
              <a:off x="2411280" y="5164200"/>
              <a:ext cx="4537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3600" spc="-1" strike="noStrike">
                  <a:solidFill>
                    <a:srgbClr val="000000"/>
                  </a:solidFill>
                  <a:latin typeface="Arial"/>
                </a:rPr>
                <a:t>4 + 5 =    + 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4888080" y="5279760"/>
              <a:ext cx="360360" cy="431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2300400" y="1714680"/>
            <a:ext cx="4543200" cy="342900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 rot="20024400">
            <a:off x="1476360" y="1655280"/>
            <a:ext cx="122400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Kev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684360" y="6020640"/>
            <a:ext cx="741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4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5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5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56" name=""/>
          <p:cNvSpPr txBox="1"/>
          <p:nvPr/>
        </p:nvSpPr>
        <p:spPr>
          <a:xfrm>
            <a:off x="1258920" y="620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57" name="" descr=""/>
          <p:cNvPicPr/>
          <p:nvPr/>
        </p:nvPicPr>
        <p:blipFill>
          <a:blip r:embed="rId1"/>
          <a:stretch/>
        </p:blipFill>
        <p:spPr>
          <a:xfrm>
            <a:off x="1258920" y="2276640"/>
            <a:ext cx="2935080" cy="3714480"/>
          </a:xfrm>
          <a:prstGeom prst="rect">
            <a:avLst/>
          </a:prstGeom>
          <a:ln w="0">
            <a:noFill/>
          </a:ln>
        </p:spPr>
      </p:pic>
      <p:sp>
        <p:nvSpPr>
          <p:cNvPr id="1558" name=""/>
          <p:cNvSpPr/>
          <p:nvPr/>
        </p:nvSpPr>
        <p:spPr>
          <a:xfrm>
            <a:off x="2124000" y="1413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 – Double Dom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9" name="" descr=""/>
          <p:cNvPicPr/>
          <p:nvPr/>
        </p:nvPicPr>
        <p:blipFill>
          <a:blip r:embed="rId2"/>
          <a:stretch/>
        </p:blipFill>
        <p:spPr>
          <a:xfrm>
            <a:off x="5292720" y="2852640"/>
            <a:ext cx="2562120" cy="1076400"/>
          </a:xfrm>
          <a:prstGeom prst="rect">
            <a:avLst/>
          </a:prstGeom>
          <a:ln w="0">
            <a:noFill/>
          </a:ln>
        </p:spPr>
      </p:pic>
      <p:pic>
        <p:nvPicPr>
          <p:cNvPr id="1560" name="" descr=""/>
          <p:cNvPicPr/>
          <p:nvPr/>
        </p:nvPicPr>
        <p:blipFill>
          <a:blip r:embed="rId3"/>
          <a:stretch/>
        </p:blipFill>
        <p:spPr>
          <a:xfrm>
            <a:off x="5219640" y="4292640"/>
            <a:ext cx="2590920" cy="1200240"/>
          </a:xfrm>
          <a:prstGeom prst="rect">
            <a:avLst/>
          </a:prstGeom>
          <a:ln w="0">
            <a:noFill/>
          </a:ln>
        </p:spPr>
      </p:pic>
      <p:sp>
        <p:nvSpPr>
          <p:cNvPr id="1561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3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64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65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8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69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1" name=""/>
          <p:cNvSpPr txBox="1"/>
          <p:nvPr/>
        </p:nvSpPr>
        <p:spPr>
          <a:xfrm>
            <a:off x="1258920" y="620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2" name=""/>
          <p:cNvSpPr/>
          <p:nvPr/>
        </p:nvSpPr>
        <p:spPr>
          <a:xfrm>
            <a:off x="2627280" y="1413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 Lessons – True/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838520" y="2275920"/>
            <a:ext cx="3503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3 + 5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8 = 3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8 =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3 + 5 = 5 +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3 + 5 = 4 +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5796000" y="256536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eveloping an understanding of the equal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5" name="" descr=""/>
          <p:cNvPicPr/>
          <p:nvPr/>
        </p:nvPicPr>
        <p:blipFill>
          <a:blip r:embed="rId1"/>
          <a:stretch/>
        </p:blipFill>
        <p:spPr>
          <a:xfrm>
            <a:off x="3276720" y="3006720"/>
            <a:ext cx="2232000" cy="2157480"/>
          </a:xfrm>
          <a:prstGeom prst="rect">
            <a:avLst/>
          </a:prstGeom>
          <a:ln w="0">
            <a:noFill/>
          </a:ln>
        </p:spPr>
      </p:pic>
      <p:pic>
        <p:nvPicPr>
          <p:cNvPr id="1576" name="" descr=""/>
          <p:cNvPicPr/>
          <p:nvPr/>
        </p:nvPicPr>
        <p:blipFill>
          <a:blip r:embed="rId2"/>
          <a:stretch/>
        </p:blipFill>
        <p:spPr>
          <a:xfrm>
            <a:off x="1619280" y="2205000"/>
            <a:ext cx="2136600" cy="2309760"/>
          </a:xfrm>
          <a:prstGeom prst="rect">
            <a:avLst/>
          </a:prstGeom>
          <a:ln w="0">
            <a:noFill/>
          </a:ln>
        </p:spPr>
      </p:pic>
      <p:sp>
        <p:nvSpPr>
          <p:cNvPr id="1577" name=""/>
          <p:cNvSpPr/>
          <p:nvPr/>
        </p:nvSpPr>
        <p:spPr>
          <a:xfrm>
            <a:off x="826920" y="5949360"/>
            <a:ext cx="770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p. 4)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0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5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5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81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82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586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88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9" name=""/>
          <p:cNvSpPr/>
          <p:nvPr/>
        </p:nvSpPr>
        <p:spPr>
          <a:xfrm>
            <a:off x="1258920" y="1413000"/>
            <a:ext cx="662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ther True/False Contex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1910880" y="2132280"/>
            <a:ext cx="23706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14 + 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0 +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14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 + 5 = 13 +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 flipH="1">
            <a:off x="4572000" y="2565360"/>
            <a:ext cx="3314880" cy="1482120"/>
          </a:xfrm>
          <a:prstGeom prst="flowChartDocumen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Using zero to introduce part-part = part-part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324000" y="598716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w could you change the false statements so that they are tr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 flipH="1">
            <a:off x="4571280" y="4581360"/>
            <a:ext cx="2305080" cy="571680"/>
          </a:xfrm>
          <a:prstGeom prst="flowChartDocumen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l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"/>
          <p:cNvSpPr/>
          <p:nvPr/>
        </p:nvSpPr>
        <p:spPr>
          <a:xfrm>
            <a:off x="1910880" y="4003920"/>
            <a:ext cx="2207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56 = 50 + 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87 = 7 + 8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3 = 9 + 3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4 = 80 + 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</a:rPr>
              <a:t>94 = 70 + 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4" dur="500"/>
                                        <p:tgtEl>
                                          <p:spTgt spid="1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5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59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59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0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0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5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Equations and inequalities express relationships between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6" name=""/>
          <p:cNvSpPr/>
          <p:nvPr/>
        </p:nvSpPr>
        <p:spPr>
          <a:xfrm>
            <a:off x="2556000" y="1413000"/>
            <a:ext cx="417672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Determine if these equations are true or false without calculating the actual sum or difference. Use relational thinking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"/>
          <p:cNvSpPr/>
          <p:nvPr/>
        </p:nvSpPr>
        <p:spPr>
          <a:xfrm>
            <a:off x="2340720" y="3715200"/>
            <a:ext cx="4709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7 + 56 = 39 + 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3 – 27 = 34 –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471 – 382 = 474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– 3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674 – 389 = 664 – 3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583 – 529 = 83 – 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8" name="" descr=""/>
          <p:cNvPicPr/>
          <p:nvPr/>
        </p:nvPicPr>
        <p:blipFill>
          <a:blip r:embed="rId1"/>
          <a:stretch/>
        </p:blipFill>
        <p:spPr>
          <a:xfrm>
            <a:off x="6659640" y="2349360"/>
            <a:ext cx="1584360" cy="1532160"/>
          </a:xfrm>
          <a:prstGeom prst="rect">
            <a:avLst/>
          </a:prstGeom>
          <a:ln w="0">
            <a:noFill/>
          </a:ln>
        </p:spPr>
      </p:pic>
      <p:pic>
        <p:nvPicPr>
          <p:cNvPr id="1609" name="" descr=""/>
          <p:cNvPicPr/>
          <p:nvPr/>
        </p:nvPicPr>
        <p:blipFill>
          <a:blip r:embed="rId2"/>
          <a:stretch/>
        </p:blipFill>
        <p:spPr>
          <a:xfrm>
            <a:off x="1042920" y="2349360"/>
            <a:ext cx="1470240" cy="1589400"/>
          </a:xfrm>
          <a:prstGeom prst="rect">
            <a:avLst/>
          </a:prstGeom>
          <a:ln w="0">
            <a:noFill/>
          </a:ln>
        </p:spPr>
      </p:pic>
      <p:sp>
        <p:nvSpPr>
          <p:cNvPr id="1610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500"/>
                                        <p:tgtEl>
                                          <p:spTgt spid="1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1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1" dur="500"/>
                                        <p:tgtEl>
                                          <p:spTgt spid="16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1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1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1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19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20" name=""/>
          <p:cNvSpPr/>
          <p:nvPr/>
        </p:nvSpPr>
        <p:spPr>
          <a:xfrm>
            <a:off x="2411280" y="1557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Very Able To D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2771640" y="3357720"/>
            <a:ext cx="3628800" cy="825120"/>
            <a:chOff x="2771640" y="3357720"/>
            <a:chExt cx="3628800" cy="825120"/>
          </a:xfrm>
        </p:grpSpPr>
        <p:sp>
          <p:nvSpPr>
            <p:cNvPr id="1622" name=""/>
            <p:cNvSpPr/>
            <p:nvPr/>
          </p:nvSpPr>
          <p:spPr>
            <a:xfrm>
              <a:off x="2771640" y="3456000"/>
              <a:ext cx="610920" cy="611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4211280" y="3456000"/>
              <a:ext cx="611280" cy="611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20800" y="341460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4960800" y="34146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5536800" y="3357720"/>
              <a:ext cx="86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7" name=""/>
          <p:cNvGrpSpPr/>
          <p:nvPr/>
        </p:nvGrpSpPr>
        <p:grpSpPr>
          <a:xfrm>
            <a:off x="2771640" y="4292640"/>
            <a:ext cx="3635280" cy="825120"/>
            <a:chOff x="2771640" y="4292640"/>
            <a:chExt cx="3635280" cy="825120"/>
          </a:xfrm>
        </p:grpSpPr>
        <p:sp>
          <p:nvSpPr>
            <p:cNvPr id="1628" name=""/>
            <p:cNvSpPr/>
            <p:nvPr/>
          </p:nvSpPr>
          <p:spPr>
            <a:xfrm>
              <a:off x="4217760" y="4459320"/>
              <a:ext cx="611280" cy="611280"/>
            </a:xfrm>
            <a:prstGeom prst="ellipse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771640" y="4459320"/>
              <a:ext cx="611280" cy="611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527280" y="436428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4967280" y="436428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543280" y="4292640"/>
              <a:ext cx="86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2771640" y="2349360"/>
            <a:ext cx="3628800" cy="825120"/>
            <a:chOff x="2771640" y="2349360"/>
            <a:chExt cx="3628800" cy="825120"/>
          </a:xfrm>
        </p:grpSpPr>
        <p:sp>
          <p:nvSpPr>
            <p:cNvPr id="1634" name=""/>
            <p:cNvSpPr/>
            <p:nvPr/>
          </p:nvSpPr>
          <p:spPr>
            <a:xfrm>
              <a:off x="2771640" y="2447640"/>
              <a:ext cx="610920" cy="6112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520800" y="2406600"/>
              <a:ext cx="576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4960800" y="2406600"/>
              <a:ext cx="57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0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5536800" y="2349360"/>
              <a:ext cx="86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4140000" y="2349360"/>
              <a:ext cx="863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4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2771640" y="5472000"/>
            <a:ext cx="611280" cy="611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"/>
          <p:cNvSpPr/>
          <p:nvPr/>
        </p:nvSpPr>
        <p:spPr>
          <a:xfrm>
            <a:off x="3521160" y="5430960"/>
            <a:ext cx="5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"/>
          <p:cNvSpPr/>
          <p:nvPr/>
        </p:nvSpPr>
        <p:spPr>
          <a:xfrm>
            <a:off x="4960800" y="54309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"/>
          <p:cNvSpPr/>
          <p:nvPr/>
        </p:nvSpPr>
        <p:spPr>
          <a:xfrm>
            <a:off x="5537160" y="537372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4140360" y="5373720"/>
            <a:ext cx="86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"/>
          <p:cNvSpPr/>
          <p:nvPr/>
        </p:nvSpPr>
        <p:spPr>
          <a:xfrm>
            <a:off x="2771640" y="5481720"/>
            <a:ext cx="611280" cy="611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4" dur="500"/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8" dur="500"/>
                                        <p:tgtEl>
                                          <p:spTgt spid="1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4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5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5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56" name=""/>
          <p:cNvGraphicFramePr/>
          <p:nvPr/>
        </p:nvGraphicFramePr>
        <p:xfrm>
          <a:off x="971640" y="1916280"/>
          <a:ext cx="7272360" cy="3797280"/>
        </p:xfrm>
        <a:graphic>
          <a:graphicData uri="http://schemas.openxmlformats.org/drawingml/2006/table">
            <a:tbl>
              <a:tblPr/>
              <a:tblGrid>
                <a:gridCol w="1700280"/>
                <a:gridCol w="1857240"/>
                <a:gridCol w="1857240"/>
                <a:gridCol w="1857600"/>
              </a:tblGrid>
              <a:tr h="2225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ult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15 marbles.  Juan gave her 28 more marbles.  How many marbles does Connie have altogethe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15 marbles.  How many more marbles does she need to have 43 marbles altogether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rt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some marbles.  Juan gave her 15 more marbles.  Now she has 43 marbles.  How many marbles did Connie have to start with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par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43 marbles.  She gave 15 to Juan.  How many marbles does Connie have left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43 marbles.  She gave some to Juan.  Now she has 15 marbles left.  How many marbles did Connie give to Juan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d some marbles.  She gave 15 to Juan.  Now she has 28 marbles left.  How many marbles did Connie have to start with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7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58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187800" y="2492280"/>
            <a:ext cx="1565280" cy="1565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7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7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"/>
          <p:cNvSpPr txBox="1"/>
          <p:nvPr/>
        </p:nvSpPr>
        <p:spPr>
          <a:xfrm>
            <a:off x="2268360" y="692280"/>
            <a:ext cx="475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are found everywhe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7093080" y="1628640"/>
            <a:ext cx="1509480" cy="1006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387440" y="2492280"/>
            <a:ext cx="1262160" cy="1584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1243080" y="4653000"/>
            <a:ext cx="1439640" cy="1166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 rot="1764000">
            <a:off x="7235640" y="2997360"/>
            <a:ext cx="1096920" cy="14396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6"/>
          <a:stretch/>
        </p:blipFill>
        <p:spPr>
          <a:xfrm>
            <a:off x="2251080" y="364500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995640" y="4653000"/>
            <a:ext cx="4464000" cy="15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ink for 20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rite and draw silently for 60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witch papers with another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art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7"/>
          <a:stretch/>
        </p:blipFill>
        <p:spPr>
          <a:xfrm>
            <a:off x="5003640" y="2563920"/>
            <a:ext cx="1873440" cy="12492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5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1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62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63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6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67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69" name="" descr=""/>
          <p:cNvPicPr/>
          <p:nvPr/>
        </p:nvPicPr>
        <p:blipFill>
          <a:blip r:embed="rId1"/>
          <a:stretch/>
        </p:blipFill>
        <p:spPr>
          <a:xfrm>
            <a:off x="539640" y="2852640"/>
            <a:ext cx="7991640" cy="2643120"/>
          </a:xfrm>
          <a:prstGeom prst="rect">
            <a:avLst/>
          </a:prstGeom>
          <a:ln w="0">
            <a:noFill/>
          </a:ln>
        </p:spPr>
      </p:pic>
      <p:sp>
        <p:nvSpPr>
          <p:cNvPr id="1670" name=""/>
          <p:cNvSpPr/>
          <p:nvPr/>
        </p:nvSpPr>
        <p:spPr>
          <a:xfrm>
            <a:off x="1835280" y="155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What’s In the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2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5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76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77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81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83" name=""/>
          <p:cNvSpPr/>
          <p:nvPr/>
        </p:nvSpPr>
        <p:spPr>
          <a:xfrm>
            <a:off x="1835280" y="1557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 – What’s In the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4" name="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416720" cy="3898800"/>
          </a:xfrm>
          <a:prstGeom prst="rect">
            <a:avLst/>
          </a:prstGeom>
          <a:ln w="0">
            <a:noFill/>
          </a:ln>
        </p:spPr>
      </p:pic>
      <p:sp>
        <p:nvSpPr>
          <p:cNvPr id="1685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86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9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690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691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695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1697" name=""/>
          <p:cNvGraphicFramePr/>
          <p:nvPr/>
        </p:nvGraphicFramePr>
        <p:xfrm>
          <a:off x="1116000" y="2998800"/>
          <a:ext cx="7272360" cy="3128760"/>
        </p:xfrm>
        <a:graphic>
          <a:graphicData uri="http://schemas.openxmlformats.org/drawingml/2006/table">
            <a:tbl>
              <a:tblPr/>
              <a:tblGrid>
                <a:gridCol w="1700280"/>
                <a:gridCol w="1857240"/>
                <a:gridCol w="1857600"/>
                <a:gridCol w="1857240"/>
              </a:tblGrid>
              <a:tr h="3138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alization and Compar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fference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43 marbles.  Juan has 15 marbles.  How many more marbles does Connie have than Juan? (Compar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many more marbles does Juan need to have as many as Connie? (Equaliz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uan has 15 marbles.  Connie has 28 more than Juan.  How many marbles does Connie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ferent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43 marbles.  She has 15 more marbles than Juan.  How many marbles does Juan have?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8" name=""/>
          <p:cNvSpPr txBox="1"/>
          <p:nvPr/>
        </p:nvSpPr>
        <p:spPr>
          <a:xfrm>
            <a:off x="1258920" y="620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1699" name=""/>
          <p:cNvGraphicFramePr/>
          <p:nvPr/>
        </p:nvGraphicFramePr>
        <p:xfrm>
          <a:off x="1116000" y="1773360"/>
          <a:ext cx="7272360" cy="1225440"/>
        </p:xfrm>
        <a:graphic>
          <a:graphicData uri="http://schemas.openxmlformats.org/drawingml/2006/table">
            <a:tbl>
              <a:tblPr/>
              <a:tblGrid>
                <a:gridCol w="1700280"/>
                <a:gridCol w="2786040"/>
                <a:gridCol w="2786040"/>
              </a:tblGrid>
              <a:tr h="1225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-Part-Wh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ntity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15 red marbles and 28 blue marbles.  How many marbles does she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rt Unknow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nie has 43 marbles.  15 are red and the rest are blue. How many blue marbles does Connie hav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0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3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704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705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8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709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11" name=""/>
          <p:cNvSpPr/>
          <p:nvPr/>
        </p:nvSpPr>
        <p:spPr>
          <a:xfrm>
            <a:off x="1763640" y="141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ni Lessons – Open Number Sent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1258920" y="620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13" name=""/>
          <p:cNvSpPr/>
          <p:nvPr/>
        </p:nvSpPr>
        <p:spPr>
          <a:xfrm>
            <a:off x="1042920" y="2133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teacher writes an open-number sentence on the board and asks the students how to make the statement true.  Students can justify their responses; e.g., using balance models, comparing distances on a number li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2771640" y="3573360"/>
            <a:ext cx="3311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+ 5 =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 = 3 +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8 =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+ 5 =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3 + 5 = </a:t>
            </a:r>
            <a:r>
              <a:rPr b="0" lang="en-CA" sz="3200" spc="-1" strike="noStrike">
                <a:solidFill>
                  <a:srgbClr val="000000"/>
                </a:solidFill>
                <a:latin typeface="Symbol"/>
                <a:ea typeface="Symbol"/>
              </a:rPr>
              <a:t>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+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71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72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72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26" name="" descr=""/>
          <p:cNvPicPr/>
          <p:nvPr/>
        </p:nvPicPr>
        <p:blipFill>
          <a:blip r:embed="rId1"/>
          <a:stretch/>
        </p:blipFill>
        <p:spPr>
          <a:xfrm>
            <a:off x="2309760" y="2116080"/>
            <a:ext cx="4524480" cy="3400560"/>
          </a:xfrm>
          <a:prstGeom prst="rect">
            <a:avLst/>
          </a:prstGeom>
          <a:ln w="0">
            <a:noFill/>
          </a:ln>
        </p:spPr>
      </p:pic>
      <p:sp>
        <p:nvSpPr>
          <p:cNvPr id="1727" name=""/>
          <p:cNvSpPr/>
          <p:nvPr/>
        </p:nvSpPr>
        <p:spPr>
          <a:xfrm rot="20024400">
            <a:off x="1235160" y="2096640"/>
            <a:ext cx="1476360" cy="5814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Em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 txBox="1"/>
          <p:nvPr/>
        </p:nvSpPr>
        <p:spPr>
          <a:xfrm>
            <a:off x="1258920" y="69228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Variables stand for a number or number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29" name=""/>
          <p:cNvSpPr/>
          <p:nvPr/>
        </p:nvSpPr>
        <p:spPr>
          <a:xfrm>
            <a:off x="684360" y="5949360"/>
            <a:ext cx="7416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Thinking Mathematically: Integrating Arithmetic &amp; Algebra in Elementary Schoo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by T. P. Carpenter, M. L. Franke and L. Levi, 2003, Portsmouth, NH: Heinemann. Copyright 2003 by the authors. Reprinted with permiss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3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734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735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8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739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41" name=""/>
          <p:cNvSpPr txBox="1"/>
          <p:nvPr/>
        </p:nvSpPr>
        <p:spPr>
          <a:xfrm>
            <a:off x="1258920" y="836640"/>
            <a:ext cx="68421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r Questions and Feedback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742" name="" descr=""/>
          <p:cNvPicPr/>
          <p:nvPr/>
        </p:nvPicPr>
        <p:blipFill>
          <a:blip r:embed="rId1"/>
          <a:stretch/>
        </p:blipFill>
        <p:spPr>
          <a:xfrm>
            <a:off x="395280" y="5300640"/>
            <a:ext cx="934920" cy="847800"/>
          </a:xfrm>
          <a:prstGeom prst="rect">
            <a:avLst/>
          </a:prstGeom>
          <a:ln w="0">
            <a:noFill/>
          </a:ln>
        </p:spPr>
      </p:pic>
      <p:pic>
        <p:nvPicPr>
          <p:cNvPr id="1743" name="" descr=""/>
          <p:cNvPicPr/>
          <p:nvPr/>
        </p:nvPicPr>
        <p:blipFill>
          <a:blip r:embed="rId2"/>
          <a:stretch/>
        </p:blipFill>
        <p:spPr>
          <a:xfrm>
            <a:off x="7380360" y="5516640"/>
            <a:ext cx="1224000" cy="604800"/>
          </a:xfrm>
          <a:prstGeom prst="rect">
            <a:avLst/>
          </a:prstGeom>
          <a:ln w="0">
            <a:noFill/>
          </a:ln>
        </p:spPr>
      </p:pic>
      <p:sp>
        <p:nvSpPr>
          <p:cNvPr id="1744" name=""/>
          <p:cNvSpPr/>
          <p:nvPr/>
        </p:nvSpPr>
        <p:spPr>
          <a:xfrm>
            <a:off x="1258920" y="2492280"/>
            <a:ext cx="6769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Each problem that I solv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became a rule which served afterwards to solve othe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Poor Richard"/>
              </a:rPr>
              <a:t>Ren</a:t>
            </a:r>
            <a:r>
              <a:rPr b="0" lang="en-US" sz="2800" spc="-1" strike="noStrike">
                <a:solidFill>
                  <a:srgbClr val="000000"/>
                </a:solidFill>
                <a:latin typeface="Poor Richard"/>
                <a:ea typeface="Arial"/>
              </a:rPr>
              <a:t>é</a:t>
            </a:r>
            <a:r>
              <a:rPr b="0" lang="en-CA" sz="2800" spc="-1" strike="noStrike">
                <a:solidFill>
                  <a:srgbClr val="000000"/>
                </a:solidFill>
                <a:latin typeface="Poor Richard"/>
              </a:rPr>
              <a:t> Descar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8317080" y="616572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18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18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19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"/>
          <p:cNvSpPr txBox="1"/>
          <p:nvPr/>
        </p:nvSpPr>
        <p:spPr>
          <a:xfrm>
            <a:off x="2268360" y="620640"/>
            <a:ext cx="475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are found everywhe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1979640" y="148428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 - Predictable S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476360" y="4221000"/>
            <a:ext cx="2303640" cy="17337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716360" y="4221000"/>
            <a:ext cx="2952720" cy="1762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948360" y="2852640"/>
            <a:ext cx="1484280" cy="1947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684360" y="2924280"/>
            <a:ext cx="1504800" cy="16002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2916360" y="2276640"/>
            <a:ext cx="1171440" cy="16556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4500720" y="2349360"/>
            <a:ext cx="2016000" cy="15764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539640" y="6165720"/>
            <a:ext cx="590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No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 From Crystal Cochrane, St. Leo Catholic Elementary School, Grade 1, Edmonton, AB, 2006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208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209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213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5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numerical or non-numeric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42920" y="1773360"/>
            <a:ext cx="7345440" cy="1000080"/>
            <a:chOff x="1042920" y="1773360"/>
            <a:chExt cx="7345440" cy="1000080"/>
          </a:xfrm>
        </p:grpSpPr>
        <p:sp>
          <p:nvSpPr>
            <p:cNvPr id="217" name=""/>
            <p:cNvSpPr/>
            <p:nvPr/>
          </p:nvSpPr>
          <p:spPr>
            <a:xfrm>
              <a:off x="1042920" y="177336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Kindergarten </a:t>
              </a:r>
              <a:r>
                <a:rPr b="0" lang="en-CA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</a:t>
              </a: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 actions, sound, colour, size, shape, 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2914560" y="2205360"/>
              <a:ext cx="3610080" cy="568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9" name=""/>
          <p:cNvGrpSpPr/>
          <p:nvPr/>
        </p:nvGrpSpPr>
        <p:grpSpPr>
          <a:xfrm>
            <a:off x="2916360" y="2924280"/>
            <a:ext cx="5279760" cy="933480"/>
            <a:chOff x="2916360" y="2924280"/>
            <a:chExt cx="5279760" cy="933480"/>
          </a:xfrm>
        </p:grpSpPr>
        <p:sp>
          <p:nvSpPr>
            <p:cNvPr id="220" name=""/>
            <p:cNvSpPr/>
            <p:nvPr/>
          </p:nvSpPr>
          <p:spPr>
            <a:xfrm>
              <a:off x="2916360" y="3213360"/>
              <a:ext cx="460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Grade 1 – add diagrams and ev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" descr=""/>
            <p:cNvPicPr/>
            <p:nvPr/>
          </p:nvPicPr>
          <p:blipFill>
            <a:blip r:embed="rId2"/>
            <a:stretch/>
          </p:blipFill>
          <p:spPr>
            <a:xfrm>
              <a:off x="7308720" y="2924280"/>
              <a:ext cx="887400" cy="933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"/>
          <p:cNvGrpSpPr/>
          <p:nvPr/>
        </p:nvGrpSpPr>
        <p:grpSpPr>
          <a:xfrm>
            <a:off x="755640" y="3860640"/>
            <a:ext cx="7418160" cy="865080"/>
            <a:chOff x="755640" y="3860640"/>
            <a:chExt cx="7418160" cy="865080"/>
          </a:xfrm>
        </p:grpSpPr>
        <p:sp>
          <p:nvSpPr>
            <p:cNvPr id="223" name=""/>
            <p:cNvSpPr/>
            <p:nvPr/>
          </p:nvSpPr>
          <p:spPr>
            <a:xfrm>
              <a:off x="755640" y="3860640"/>
              <a:ext cx="525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Grade 2 – focus on  attributes and numb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"/>
            <p:cNvGrpSpPr/>
            <p:nvPr/>
          </p:nvGrpSpPr>
          <p:grpSpPr>
            <a:xfrm>
              <a:off x="755640" y="4436640"/>
              <a:ext cx="7418160" cy="289080"/>
              <a:chOff x="755640" y="4436640"/>
              <a:chExt cx="7418160" cy="289080"/>
            </a:xfrm>
          </p:grpSpPr>
          <p:grpSp>
            <p:nvGrpSpPr>
              <p:cNvPr id="225" name=""/>
              <p:cNvGrpSpPr/>
              <p:nvPr/>
            </p:nvGrpSpPr>
            <p:grpSpPr>
              <a:xfrm>
                <a:off x="5240160" y="4436640"/>
                <a:ext cx="2933640" cy="289080"/>
                <a:chOff x="5240160" y="4436640"/>
                <a:chExt cx="2933640" cy="289080"/>
              </a:xfrm>
            </p:grpSpPr>
            <p:grpSp>
              <p:nvGrpSpPr>
                <p:cNvPr id="226" name=""/>
                <p:cNvGrpSpPr/>
                <p:nvPr/>
              </p:nvGrpSpPr>
              <p:grpSpPr>
                <a:xfrm>
                  <a:off x="5240160" y="4436640"/>
                  <a:ext cx="1423080" cy="289080"/>
                  <a:chOff x="5240160" y="4436640"/>
                  <a:chExt cx="1423080" cy="289080"/>
                </a:xfrm>
              </p:grpSpPr>
              <p:sp>
                <p:nvSpPr>
                  <p:cNvPr id="227" name=""/>
                  <p:cNvSpPr/>
                  <p:nvPr/>
                </p:nvSpPr>
                <p:spPr>
                  <a:xfrm>
                    <a:off x="524016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5613120" y="4436640"/>
                    <a:ext cx="304920" cy="289080"/>
                  </a:xfrm>
                  <a:prstGeom prst="rect">
                    <a:avLst/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5985360" y="4436640"/>
                    <a:ext cx="304920" cy="28908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35832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6750720" y="4436640"/>
                  <a:ext cx="1423080" cy="289080"/>
                  <a:chOff x="6750720" y="4436640"/>
                  <a:chExt cx="1423080" cy="2890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675072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123680" y="4436640"/>
                    <a:ext cx="304920" cy="289080"/>
                  </a:xfrm>
                  <a:prstGeom prst="rect">
                    <a:avLst/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495920" y="4436640"/>
                    <a:ext cx="304920" cy="28908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86888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6" name=""/>
              <p:cNvGrpSpPr/>
              <p:nvPr/>
            </p:nvGrpSpPr>
            <p:grpSpPr>
              <a:xfrm>
                <a:off x="2243160" y="4436640"/>
                <a:ext cx="2933640" cy="289080"/>
                <a:chOff x="2243160" y="4436640"/>
                <a:chExt cx="2933640" cy="289080"/>
              </a:xfrm>
            </p:grpSpPr>
            <p:grpSp>
              <p:nvGrpSpPr>
                <p:cNvPr id="237" name=""/>
                <p:cNvGrpSpPr/>
                <p:nvPr/>
              </p:nvGrpSpPr>
              <p:grpSpPr>
                <a:xfrm>
                  <a:off x="2243160" y="4436640"/>
                  <a:ext cx="1423080" cy="289080"/>
                  <a:chOff x="2243160" y="4436640"/>
                  <a:chExt cx="1423080" cy="289080"/>
                </a:xfrm>
              </p:grpSpPr>
              <p:sp>
                <p:nvSpPr>
                  <p:cNvPr id="238" name=""/>
                  <p:cNvSpPr/>
                  <p:nvPr/>
                </p:nvSpPr>
                <p:spPr>
                  <a:xfrm>
                    <a:off x="224316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"/>
                  <p:cNvSpPr/>
                  <p:nvPr/>
                </p:nvSpPr>
                <p:spPr>
                  <a:xfrm>
                    <a:off x="2616120" y="4436640"/>
                    <a:ext cx="304920" cy="289080"/>
                  </a:xfrm>
                  <a:prstGeom prst="rect">
                    <a:avLst/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2988360" y="4436640"/>
                    <a:ext cx="304920" cy="28908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36132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3753720" y="4436640"/>
                  <a:ext cx="1423080" cy="289080"/>
                  <a:chOff x="3753720" y="4436640"/>
                  <a:chExt cx="1423080" cy="28908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375372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4126680" y="4436640"/>
                    <a:ext cx="304920" cy="289080"/>
                  </a:xfrm>
                  <a:prstGeom prst="rect">
                    <a:avLst/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498920" y="4436640"/>
                    <a:ext cx="304920" cy="28908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871880" y="4436640"/>
                    <a:ext cx="304920" cy="28908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99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7" name=""/>
              <p:cNvGrpSpPr/>
              <p:nvPr/>
            </p:nvGrpSpPr>
            <p:grpSpPr>
              <a:xfrm>
                <a:off x="755640" y="4436640"/>
                <a:ext cx="1422000" cy="289080"/>
                <a:chOff x="755640" y="4436640"/>
                <a:chExt cx="1422000" cy="28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55640" y="4436640"/>
                  <a:ext cx="304560" cy="28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28240" y="4436640"/>
                  <a:ext cx="304560" cy="289080"/>
                </a:xfrm>
                <a:prstGeom prst="rect">
                  <a:avLst/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00480" y="4436640"/>
                  <a:ext cx="304560" cy="2890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873080" y="4436640"/>
                  <a:ext cx="304560" cy="2890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2" name=""/>
          <p:cNvGrpSpPr/>
          <p:nvPr/>
        </p:nvGrpSpPr>
        <p:grpSpPr>
          <a:xfrm>
            <a:off x="755640" y="5157720"/>
            <a:ext cx="7848720" cy="1166760"/>
            <a:chOff x="755640" y="5157720"/>
            <a:chExt cx="7848720" cy="1166760"/>
          </a:xfrm>
        </p:grpSpPr>
        <p:sp>
          <p:nvSpPr>
            <p:cNvPr id="253" name=""/>
            <p:cNvSpPr/>
            <p:nvPr/>
          </p:nvSpPr>
          <p:spPr>
            <a:xfrm>
              <a:off x="2195640" y="5229000"/>
              <a:ext cx="64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2000" spc="-1" strike="noStrike">
                  <a:solidFill>
                    <a:srgbClr val="000000"/>
                  </a:solidFill>
                  <a:latin typeface="Arial"/>
                </a:rPr>
                <a:t>Grade 3 – expressed as concrete, pictorial, symbo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tretch/>
          </p:blipFill>
          <p:spPr>
            <a:xfrm>
              <a:off x="755640" y="5157720"/>
              <a:ext cx="1440000" cy="1166760"/>
            </a:xfrm>
            <a:prstGeom prst="rect">
              <a:avLst/>
            </a:prstGeom>
            <a:ln w="3240">
              <a:solidFill>
                <a:srgbClr val="000000"/>
              </a:solidFill>
              <a:miter/>
            </a:ln>
          </p:spPr>
        </p:pic>
      </p:grpSp>
      <p:sp>
        <p:nvSpPr>
          <p:cNvPr id="255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259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260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264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"/>
          <p:cNvSpPr txBox="1"/>
          <p:nvPr/>
        </p:nvSpPr>
        <p:spPr>
          <a:xfrm>
            <a:off x="1692360" y="69228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atterns can be numerical or non-numerical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187280" y="3357720"/>
            <a:ext cx="3970440" cy="1552320"/>
            <a:chOff x="1187280" y="3357720"/>
            <a:chExt cx="3970440" cy="1552320"/>
          </a:xfrm>
        </p:grpSpPr>
        <p:pic>
          <p:nvPicPr>
            <p:cNvPr id="268" name="" descr=""/>
            <p:cNvPicPr/>
            <p:nvPr/>
          </p:nvPicPr>
          <p:blipFill>
            <a:blip r:embed="rId1"/>
            <a:stretch/>
          </p:blipFill>
          <p:spPr>
            <a:xfrm>
              <a:off x="1187280" y="3357720"/>
              <a:ext cx="116208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" descr=""/>
            <p:cNvPicPr/>
            <p:nvPr/>
          </p:nvPicPr>
          <p:blipFill>
            <a:blip r:embed="rId2"/>
            <a:stretch/>
          </p:blipFill>
          <p:spPr>
            <a:xfrm>
              <a:off x="2122560" y="3357720"/>
              <a:ext cx="116208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" descr=""/>
            <p:cNvPicPr/>
            <p:nvPr/>
          </p:nvPicPr>
          <p:blipFill>
            <a:blip r:embed="rId3"/>
            <a:stretch/>
          </p:blipFill>
          <p:spPr>
            <a:xfrm>
              <a:off x="3058920" y="3357720"/>
              <a:ext cx="1162080" cy="15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4"/>
            <a:stretch/>
          </p:blipFill>
          <p:spPr>
            <a:xfrm>
              <a:off x="3995640" y="3357720"/>
              <a:ext cx="1162080" cy="15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2" name=""/>
          <p:cNvSpPr/>
          <p:nvPr/>
        </p:nvSpPr>
        <p:spPr>
          <a:xfrm>
            <a:off x="3419640" y="162864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92360" y="49417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h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00720" y="2421000"/>
            <a:ext cx="15130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700" spc="-1" strike="noStrike">
                <a:solidFill>
                  <a:srgbClr val="000000"/>
                </a:solidFill>
                <a:latin typeface="comic"/>
              </a:rPr>
              <a:t>½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796000" y="41497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hen Will We Reach ½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ff"/>
            </a:gs>
            <a:gs pos="100000">
              <a:srgbClr val="cce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283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177840" y="188640"/>
            <a:ext cx="8786880" cy="6453360"/>
            <a:chOff x="177840" y="188640"/>
            <a:chExt cx="8786880" cy="6453360"/>
          </a:xfrm>
        </p:grpSpPr>
        <p:grpSp>
          <p:nvGrpSpPr>
            <p:cNvPr id="280" name=""/>
            <p:cNvGrpSpPr/>
            <p:nvPr/>
          </p:nvGrpSpPr>
          <p:grpSpPr>
            <a:xfrm>
              <a:off x="177840" y="188640"/>
              <a:ext cx="8497800" cy="4103640"/>
              <a:chOff x="177840" y="188640"/>
              <a:chExt cx="8497800" cy="4103640"/>
            </a:xfrm>
          </p:grpSpPr>
          <p:sp>
            <p:nvSpPr>
              <p:cNvPr id="281" name=""/>
              <p:cNvSpPr/>
              <p:nvPr/>
            </p:nvSpPr>
            <p:spPr>
              <a:xfrm>
                <a:off x="538200" y="189000"/>
                <a:ext cx="0" cy="1871640"/>
              </a:xfrm>
              <a:prstGeom prst="line">
                <a:avLst/>
              </a:prstGeom>
              <a:ln w="1260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95280" y="188640"/>
                <a:ext cx="0" cy="410364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77840" y="331920"/>
                <a:ext cx="849780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869080" y="4221000"/>
              <a:ext cx="3095640" cy="2421000"/>
              <a:chOff x="5869080" y="4221000"/>
              <a:chExt cx="3095640" cy="2421000"/>
            </a:xfrm>
          </p:grpSpPr>
          <p:sp>
            <p:nvSpPr>
              <p:cNvPr id="285" name=""/>
              <p:cNvSpPr/>
              <p:nvPr/>
            </p:nvSpPr>
            <p:spPr>
              <a:xfrm>
                <a:off x="5869080" y="6524640"/>
                <a:ext cx="3095640" cy="0"/>
              </a:xfrm>
              <a:prstGeom prst="line">
                <a:avLst/>
              </a:prstGeom>
              <a:ln w="1908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48720" y="4221000"/>
                <a:ext cx="0" cy="2421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7" name=""/>
          <p:cNvSpPr txBox="1"/>
          <p:nvPr/>
        </p:nvSpPr>
        <p:spPr>
          <a:xfrm>
            <a:off x="1692360" y="765000"/>
            <a:ext cx="6192720" cy="7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2429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ecognizing patterns involves attribut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02429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8" name=""/>
          <p:cNvSpPr/>
          <p:nvPr/>
        </p:nvSpPr>
        <p:spPr>
          <a:xfrm>
            <a:off x="3276720" y="57340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attern Puzz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11280" y="3284640"/>
            <a:ext cx="2374920" cy="18414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4284720" y="3573360"/>
            <a:ext cx="730080" cy="100800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627280" y="2565360"/>
            <a:ext cx="5904000" cy="30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lect an attribute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ake a core unit with 3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 elements, using this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big, big, sm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square, triangle, triang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(yellow, blue, 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ctr"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peat the pattern 2 more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k your partner to describe your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64000" y="170028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earning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59640" y="6165720"/>
            <a:ext cx="4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1:53:57Z</dcterms:created>
  <dc:creator>gibeaul</dc:creator>
  <dc:description/>
  <dc:language>en-US</dc:language>
  <cp:lastModifiedBy>Esther.Yong</cp:lastModifiedBy>
  <dcterms:modified xsi:type="dcterms:W3CDTF">2007-01-03T20:39:46Z</dcterms:modified>
  <cp:revision>167</cp:revision>
  <dc:subject/>
  <dc:title>Slide 1</dc:title>
</cp:coreProperties>
</file>